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337A-D73B-4C94-AE67-F3DB8430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036-05FD-45C6-B723-8DB391CE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776-E667-407F-A28D-2427055C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E4B-9A2E-44D3-9D1D-9F32BAE5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A4D4-BC89-41DB-A733-5A7FE2DD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5EDB-40FB-4490-A653-3260BDA9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CBF1-9417-457B-A061-C1365D41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81BF-DF06-4D08-A0B6-127CCF0E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D115-90E1-4DFA-B839-6E2853BE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27BA-FF39-4B75-8FFC-AAE1F903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DC92-7F45-417C-A7B5-69DE40CC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9D3-6966-4F20-9697-C529B788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FC39-41F5-4987-A079-9887B2EC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3B46-47FC-45AC-AB83-30D9CCDF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8D1C-98EB-4D89-A029-0F9747D1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64A5-6654-4D7B-AFA8-A3E29915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092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6840" y="14475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092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6840" y="3954960"/>
            <a:ext cx="2852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0149-C2E3-4DA2-9D7A-5CF0004D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829A-B986-46E4-910E-1140E21F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8D76-F042-4D7D-87F2-DF055355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6B7-3AE4-4C3B-B3F8-B68990E2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888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75E-FFCB-4F7D-ACC4-62CE1DEF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5F0-B1C4-4E17-A909-BEC07CAC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5320" y="39549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C368-39E7-4766-8256-A4D7A89D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5320" y="1447560"/>
            <a:ext cx="432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954960"/>
            <a:ext cx="885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085-973A-44BB-BDB7-2E9870E2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447560"/>
            <a:ext cx="885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400800"/>
            <a:ext cx="15955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45960" y="6400800"/>
            <a:ext cx="602604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3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Addison-Wesley Publishers 200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4800" y="6400800"/>
            <a:ext cx="1099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2C09-DEAD-481A-B8E3-3FFB275BBE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5360" y="114300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70040" y="6229080"/>
            <a:ext cx="2092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360" y="6229080"/>
            <a:ext cx="30830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464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C469-21F9-4214-8E05-2968D751E2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2590920"/>
            <a:ext cx="883296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lides for Chapter 9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ame Service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1320" y="2895480"/>
            <a:ext cx="69339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24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800"/>
            </a:b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8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Arial"/>
              </a:rPr>
              <a:t>Edition 3, © Addison-Wesley 2001</a:t>
            </a:r>
            <a:endParaRPr b="0" lang="en-US" sz="24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5360" y="2895480"/>
            <a:ext cx="1933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structuring the director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23880" y="1890720"/>
            <a:ext cx="8431560" cy="3341520"/>
            <a:chOff x="623880" y="1890720"/>
            <a:chExt cx="8431560" cy="3341520"/>
          </a:xfrm>
        </p:grpSpPr>
        <p:sp>
          <p:nvSpPr>
            <p:cNvPr id="580" name=""/>
            <p:cNvSpPr/>
            <p:nvPr/>
          </p:nvSpPr>
          <p:spPr>
            <a:xfrm>
              <a:off x="2900520" y="3535200"/>
              <a:ext cx="1164960" cy="406080"/>
            </a:xfrm>
            <a:prstGeom prst="roundRect">
              <a:avLst>
                <a:gd name="adj" fmla="val 4824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00520" y="3535200"/>
              <a:ext cx="1191960" cy="432720"/>
            </a:xfrm>
            <a:prstGeom prst="roundRect">
              <a:avLst>
                <a:gd name="adj" fmla="val 45236"/>
              </a:avLst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902040" y="3562200"/>
              <a:ext cx="180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630600" y="3562200"/>
              <a:ext cx="144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333600" y="3562200"/>
              <a:ext cx="180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062160" y="3562200"/>
              <a:ext cx="180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65680" y="27176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060640" y="4401720"/>
              <a:ext cx="1163520" cy="3790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60640" y="4401720"/>
              <a:ext cx="1192320" cy="406080"/>
            </a:xfrm>
            <a:prstGeom prst="roundRect">
              <a:avLst>
                <a:gd name="adj" fmla="val 48241"/>
              </a:avLst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103560" y="40636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86040" y="4401720"/>
              <a:ext cx="1165320" cy="3790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686040" y="4401720"/>
              <a:ext cx="1192320" cy="406080"/>
            </a:xfrm>
            <a:prstGeom prst="roundRect">
              <a:avLst>
                <a:gd name="adj" fmla="val 48241"/>
              </a:avLst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87920" y="4428720"/>
              <a:ext cx="144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416480" y="4428720"/>
              <a:ext cx="144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119480" y="4428720"/>
              <a:ext cx="180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848040" y="4428720"/>
              <a:ext cx="180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98640" y="406368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665440" y="4248000"/>
              <a:ext cx="163440" cy="13428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85" y="34"/>
                  </a:moveTo>
                  <a:lnTo>
                    <a:pt x="103" y="51"/>
                  </a:lnTo>
                  <a:lnTo>
                    <a:pt x="0" y="85"/>
                  </a:lnTo>
                  <a:lnTo>
                    <a:pt x="68" y="0"/>
                  </a:lnTo>
                  <a:lnTo>
                    <a:pt x="85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2817720" y="3779640"/>
              <a:ext cx="677880" cy="460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110120" y="4221000"/>
              <a:ext cx="135000" cy="16128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17" y="17"/>
                  </a:moveTo>
                  <a:lnTo>
                    <a:pt x="51" y="0"/>
                  </a:lnTo>
                  <a:lnTo>
                    <a:pt x="85" y="102"/>
                  </a:lnTo>
                  <a:lnTo>
                    <a:pt x="0" y="34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 flipV="1">
              <a:off x="3740040" y="3779280"/>
              <a:ext cx="379440" cy="433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36760" y="4240080"/>
              <a:ext cx="189000" cy="10728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102" y="34"/>
                  </a:moveTo>
                  <a:lnTo>
                    <a:pt x="119" y="68"/>
                  </a:lnTo>
                  <a:lnTo>
                    <a:pt x="0" y="68"/>
                  </a:lnTo>
                  <a:lnTo>
                    <a:pt x="85" y="0"/>
                  </a:lnTo>
                  <a:lnTo>
                    <a:pt x="102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1598400" y="3779640"/>
              <a:ext cx="1625400" cy="5137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035160" y="4428720"/>
              <a:ext cx="180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790720" y="4428720"/>
              <a:ext cx="180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94080" y="4428720"/>
              <a:ext cx="144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222640" y="4428720"/>
              <a:ext cx="144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424240" y="3288960"/>
              <a:ext cx="73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: 59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21240" y="4146120"/>
              <a:ext cx="73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: 57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08200" y="4157280"/>
              <a:ext cx="839880" cy="19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14400" y="4146120"/>
              <a:ext cx="73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: 5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53200" y="3535200"/>
              <a:ext cx="1192320" cy="406080"/>
            </a:xfrm>
            <a:prstGeom prst="roundRect">
              <a:avLst>
                <a:gd name="adj" fmla="val 4824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153200" y="3535200"/>
              <a:ext cx="1219320" cy="432720"/>
            </a:xfrm>
            <a:prstGeom prst="roundRect">
              <a:avLst>
                <a:gd name="adj" fmla="val 45236"/>
              </a:avLst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156520" y="3562200"/>
              <a:ext cx="180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885080" y="3562200"/>
              <a:ext cx="180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613640" y="3562200"/>
              <a:ext cx="144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43640" y="3562200"/>
              <a:ext cx="180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75560" y="2717640"/>
              <a:ext cx="191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R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11800" y="4401720"/>
              <a:ext cx="1165320" cy="3790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11800" y="4401720"/>
              <a:ext cx="1192320" cy="406080"/>
            </a:xfrm>
            <a:prstGeom prst="roundRect">
              <a:avLst>
                <a:gd name="adj" fmla="val 48241"/>
              </a:avLst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02360" y="39398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40640" y="4401720"/>
              <a:ext cx="1192320" cy="3790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40640" y="4401720"/>
              <a:ext cx="1220760" cy="406080"/>
            </a:xfrm>
            <a:prstGeom prst="roundRect">
              <a:avLst>
                <a:gd name="adj" fmla="val 48241"/>
              </a:avLst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643960" y="4428720"/>
              <a:ext cx="144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372520" y="4428720"/>
              <a:ext cx="144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102520" y="4428720"/>
              <a:ext cx="180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831080" y="4428720"/>
              <a:ext cx="180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07200" y="4673160"/>
              <a:ext cx="109440" cy="188640"/>
            </a:xfrm>
            <a:custGeom>
              <a:avLst/>
              <a:gdLst/>
              <a:ahLst/>
              <a:rect l="l" t="t" r="r" b="b"/>
              <a:pathLst>
                <a:path w="69" h="119">
                  <a:moveTo>
                    <a:pt x="35" y="17"/>
                  </a:moveTo>
                  <a:lnTo>
                    <a:pt x="69" y="17"/>
                  </a:lnTo>
                  <a:lnTo>
                    <a:pt x="17" y="119"/>
                  </a:lnTo>
                  <a:lnTo>
                    <a:pt x="0" y="0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7262640" y="3779280"/>
              <a:ext cx="189000" cy="89316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093160" y="4221000"/>
              <a:ext cx="135000" cy="16128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17" y="17"/>
                  </a:moveTo>
                  <a:lnTo>
                    <a:pt x="34" y="0"/>
                  </a:lnTo>
                  <a:lnTo>
                    <a:pt x="85" y="102"/>
                  </a:lnTo>
                  <a:lnTo>
                    <a:pt x="0" y="34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7723080" y="3779280"/>
              <a:ext cx="379440" cy="433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313320" y="4428720"/>
              <a:ext cx="180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043680" y="4428720"/>
              <a:ext cx="144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745240" y="4428720"/>
              <a:ext cx="144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73800" y="4428720"/>
              <a:ext cx="144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560" y="3288960"/>
              <a:ext cx="73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: 6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8520" y="4138200"/>
              <a:ext cx="73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: 45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948280" y="4146120"/>
              <a:ext cx="73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: 7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932360" y="2180880"/>
              <a:ext cx="1165320" cy="3790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932360" y="2180880"/>
              <a:ext cx="1192320" cy="406080"/>
            </a:xfrm>
            <a:prstGeom prst="roundRect">
              <a:avLst>
                <a:gd name="adj" fmla="val 48241"/>
              </a:avLst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934240" y="2207880"/>
              <a:ext cx="144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64240" y="2207880"/>
              <a:ext cx="144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65800" y="2207880"/>
              <a:ext cx="144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94360" y="2207880"/>
              <a:ext cx="1440" cy="352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05640" y="3373200"/>
              <a:ext cx="190440" cy="134640"/>
            </a:xfrm>
            <a:custGeom>
              <a:avLst/>
              <a:gdLst/>
              <a:ahLst/>
              <a:rect l="l" t="t" r="r" b="b"/>
              <a:pathLst>
                <a:path w="120" h="85">
                  <a:moveTo>
                    <a:pt x="17" y="34"/>
                  </a:moveTo>
                  <a:lnTo>
                    <a:pt x="34" y="0"/>
                  </a:lnTo>
                  <a:lnTo>
                    <a:pt x="120" y="85"/>
                  </a:lnTo>
                  <a:lnTo>
                    <a:pt x="0" y="51"/>
                  </a:lnTo>
                  <a:lnTo>
                    <a:pt x="17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99240" y="2369880"/>
              <a:ext cx="1733400" cy="105696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49600" y="3373200"/>
              <a:ext cx="163440" cy="13464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86" y="34"/>
                  </a:moveTo>
                  <a:lnTo>
                    <a:pt x="103" y="51"/>
                  </a:lnTo>
                  <a:lnTo>
                    <a:pt x="0" y="85"/>
                  </a:lnTo>
                  <a:lnTo>
                    <a:pt x="69" y="0"/>
                  </a:lnTo>
                  <a:lnTo>
                    <a:pt x="86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3685680" y="2369880"/>
              <a:ext cx="1543320" cy="102996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3880" y="2423880"/>
              <a:ext cx="3468600" cy="62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23880" y="2423880"/>
              <a:ext cx="3495600" cy="650520"/>
            </a:xfrm>
            <a:prstGeom prst="rect">
              <a:avLst/>
            </a:prstGeom>
            <a:noFill/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40600" y="2518920"/>
              <a:ext cx="165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599 = #633/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40600" y="2761920"/>
              <a:ext cx="325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642 = #633/NOR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27480" y="2560320"/>
              <a:ext cx="189000" cy="8064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102" y="17"/>
                  </a:moveTo>
                  <a:lnTo>
                    <a:pt x="119" y="51"/>
                  </a:lnTo>
                  <a:lnTo>
                    <a:pt x="0" y="51"/>
                  </a:lnTo>
                  <a:lnTo>
                    <a:pt x="102" y="0"/>
                  </a:lnTo>
                  <a:lnTo>
                    <a:pt x="102" y="17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416480" y="2369880"/>
              <a:ext cx="596880" cy="2170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95520" y="2150640"/>
              <a:ext cx="235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l-known directorie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750080" y="3968280"/>
              <a:ext cx="839880" cy="18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813800" y="394632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619160" y="1890720"/>
              <a:ext cx="80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: 63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398920" y="1890720"/>
              <a:ext cx="100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WORL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664240" y="4267080"/>
              <a:ext cx="189000" cy="10728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17" y="34"/>
                  </a:moveTo>
                  <a:lnTo>
                    <a:pt x="34" y="0"/>
                  </a:lnTo>
                  <a:lnTo>
                    <a:pt x="119" y="68"/>
                  </a:lnTo>
                  <a:lnTo>
                    <a:pt x="0" y="68"/>
                  </a:lnTo>
                  <a:lnTo>
                    <a:pt x="17" y="34"/>
                  </a:lnTo>
                  <a:close/>
                </a:path>
              </a:pathLst>
            </a:custGeom>
            <a:solidFill>
              <a:srgbClr val="000000"/>
            </a:solidFill>
            <a:ln w="39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 flipV="1">
              <a:off x="3983040" y="3750840"/>
              <a:ext cx="1681200" cy="5695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558480" y="4957560"/>
              <a:ext cx="126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#633/EC/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241960" y="39286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1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.500 service architectur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274920" y="1411200"/>
            <a:ext cx="5262480" cy="435132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74920" y="1411200"/>
            <a:ext cx="5295960" cy="4384800"/>
          </a:xfrm>
          <a:prstGeom prst="rect">
            <a:avLst/>
          </a:prstGeom>
          <a:noFill/>
          <a:ln w="4932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11440" y="2592360"/>
            <a:ext cx="1079640" cy="1077840"/>
          </a:xfrm>
          <a:prstGeom prst="ellipse">
            <a:avLst/>
          </a:prstGeom>
          <a:solidFill>
            <a:srgbClr val="ffffff"/>
          </a:solidFill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365800" y="1647720"/>
            <a:ext cx="1079280" cy="1079640"/>
          </a:xfrm>
          <a:prstGeom prst="ellipse">
            <a:avLst/>
          </a:prstGeom>
          <a:solidFill>
            <a:srgbClr val="ffffff"/>
          </a:solidFill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365800" y="3535200"/>
            <a:ext cx="1079280" cy="1079640"/>
          </a:xfrm>
          <a:prstGeom prst="ellipse">
            <a:avLst/>
          </a:prstGeom>
          <a:solidFill>
            <a:srgbClr val="ffffff"/>
          </a:solidFill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22520" y="2793960"/>
            <a:ext cx="944640" cy="776160"/>
          </a:xfrm>
          <a:prstGeom prst="rect">
            <a:avLst/>
          </a:prstGeom>
          <a:noFill/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600280" y="3063960"/>
            <a:ext cx="168480" cy="101520"/>
          </a:xfrm>
          <a:custGeom>
            <a:avLst/>
            <a:gdLst/>
            <a:ahLst/>
            <a:rect l="l" t="t" r="r" b="b"/>
            <a:pathLst>
              <a:path w="106" h="64">
                <a:moveTo>
                  <a:pt x="106" y="21"/>
                </a:moveTo>
                <a:lnTo>
                  <a:pt x="106" y="64"/>
                </a:lnTo>
                <a:lnTo>
                  <a:pt x="0" y="21"/>
                </a:lnTo>
                <a:lnTo>
                  <a:pt x="106" y="0"/>
                </a:lnTo>
                <a:lnTo>
                  <a:pt x="106" y="21"/>
                </a:lnTo>
                <a:close/>
              </a:path>
            </a:pathLst>
          </a:custGeom>
          <a:solidFill>
            <a:srgbClr val="000000"/>
          </a:solidFill>
          <a:ln w="49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308400" y="3063960"/>
            <a:ext cx="169920" cy="101520"/>
          </a:xfrm>
          <a:custGeom>
            <a:avLst/>
            <a:gdLst/>
            <a:ahLst/>
            <a:rect l="l" t="t" r="r" b="b"/>
            <a:pathLst>
              <a:path w="107" h="64">
                <a:moveTo>
                  <a:pt x="0" y="21"/>
                </a:moveTo>
                <a:lnTo>
                  <a:pt x="0" y="0"/>
                </a:lnTo>
                <a:lnTo>
                  <a:pt x="107" y="21"/>
                </a:lnTo>
                <a:lnTo>
                  <a:pt x="0" y="64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49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68760" y="3097080"/>
            <a:ext cx="539640" cy="1800"/>
          </a:xfrm>
          <a:prstGeom prst="line">
            <a:avLst/>
          </a:prstGeom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556160" y="3435480"/>
            <a:ext cx="168120" cy="101520"/>
          </a:xfrm>
          <a:custGeom>
            <a:avLst/>
            <a:gdLst/>
            <a:ahLst/>
            <a:rect l="l" t="t" r="r" b="b"/>
            <a:pathLst>
              <a:path w="106" h="64">
                <a:moveTo>
                  <a:pt x="85" y="43"/>
                </a:moveTo>
                <a:lnTo>
                  <a:pt x="63" y="64"/>
                </a:lnTo>
                <a:lnTo>
                  <a:pt x="0" y="0"/>
                </a:lnTo>
                <a:lnTo>
                  <a:pt x="106" y="22"/>
                </a:lnTo>
                <a:lnTo>
                  <a:pt x="85" y="43"/>
                </a:lnTo>
                <a:close/>
              </a:path>
            </a:pathLst>
          </a:custGeom>
          <a:solidFill>
            <a:srgbClr val="000000"/>
          </a:solidFill>
          <a:ln w="49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97320" y="3738600"/>
            <a:ext cx="168480" cy="135000"/>
          </a:xfrm>
          <a:custGeom>
            <a:avLst/>
            <a:gdLst/>
            <a:ahLst/>
            <a:rect l="l" t="t" r="r" b="b"/>
            <a:pathLst>
              <a:path w="106" h="85">
                <a:moveTo>
                  <a:pt x="21" y="21"/>
                </a:moveTo>
                <a:lnTo>
                  <a:pt x="21" y="0"/>
                </a:lnTo>
                <a:lnTo>
                  <a:pt x="106" y="85"/>
                </a:lnTo>
                <a:lnTo>
                  <a:pt x="0" y="42"/>
                </a:lnTo>
                <a:lnTo>
                  <a:pt x="21" y="21"/>
                </a:lnTo>
                <a:close/>
              </a:path>
            </a:pathLst>
          </a:custGeom>
          <a:solidFill>
            <a:srgbClr val="000000"/>
          </a:solidFill>
          <a:ln w="49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726080" y="3502080"/>
            <a:ext cx="471240" cy="270000"/>
          </a:xfrm>
          <a:prstGeom prst="line">
            <a:avLst/>
          </a:prstGeom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91080" y="2760840"/>
            <a:ext cx="168120" cy="134640"/>
          </a:xfrm>
          <a:custGeom>
            <a:avLst/>
            <a:gdLst/>
            <a:ahLst/>
            <a:rect l="l" t="t" r="r" b="b"/>
            <a:pathLst>
              <a:path w="106" h="85">
                <a:moveTo>
                  <a:pt x="106" y="21"/>
                </a:moveTo>
                <a:lnTo>
                  <a:pt x="106" y="64"/>
                </a:lnTo>
                <a:lnTo>
                  <a:pt x="0" y="85"/>
                </a:lnTo>
                <a:lnTo>
                  <a:pt x="85" y="0"/>
                </a:lnTo>
                <a:lnTo>
                  <a:pt x="106" y="21"/>
                </a:lnTo>
                <a:close/>
              </a:path>
            </a:pathLst>
          </a:custGeom>
          <a:solidFill>
            <a:srgbClr val="000000"/>
          </a:solidFill>
          <a:ln w="49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64200" y="2422440"/>
            <a:ext cx="168120" cy="135000"/>
          </a:xfrm>
          <a:custGeom>
            <a:avLst/>
            <a:gdLst/>
            <a:ahLst/>
            <a:rect l="l" t="t" r="r" b="b"/>
            <a:pathLst>
              <a:path w="106" h="85">
                <a:moveTo>
                  <a:pt x="21" y="64"/>
                </a:moveTo>
                <a:lnTo>
                  <a:pt x="0" y="43"/>
                </a:lnTo>
                <a:lnTo>
                  <a:pt x="106" y="0"/>
                </a:lnTo>
                <a:lnTo>
                  <a:pt x="42" y="85"/>
                </a:lnTo>
                <a:lnTo>
                  <a:pt x="21" y="64"/>
                </a:lnTo>
                <a:close/>
              </a:path>
            </a:pathLst>
          </a:custGeom>
          <a:solidFill>
            <a:srgbClr val="000000"/>
          </a:solidFill>
          <a:ln w="49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4759200" y="2523960"/>
            <a:ext cx="438120" cy="270000"/>
          </a:xfrm>
          <a:prstGeom prst="line">
            <a:avLst/>
          </a:prstGeom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22520" y="1714680"/>
            <a:ext cx="944640" cy="776160"/>
          </a:xfrm>
          <a:prstGeom prst="rect">
            <a:avLst/>
          </a:prstGeom>
          <a:noFill/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622520" y="3873600"/>
            <a:ext cx="944640" cy="774720"/>
          </a:xfrm>
          <a:prstGeom prst="rect">
            <a:avLst/>
          </a:prstGeom>
          <a:noFill/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567160" y="4110120"/>
            <a:ext cx="168120" cy="16812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85" y="42"/>
                </a:moveTo>
                <a:lnTo>
                  <a:pt x="106" y="63"/>
                </a:lnTo>
                <a:lnTo>
                  <a:pt x="0" y="106"/>
                </a:lnTo>
                <a:lnTo>
                  <a:pt x="64" y="0"/>
                </a:lnTo>
                <a:lnTo>
                  <a:pt x="85" y="42"/>
                </a:lnTo>
                <a:close/>
              </a:path>
            </a:pathLst>
          </a:custGeom>
          <a:solidFill>
            <a:srgbClr val="000000"/>
          </a:solidFill>
          <a:ln w="49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09920" y="3502080"/>
            <a:ext cx="168480" cy="135000"/>
          </a:xfrm>
          <a:custGeom>
            <a:avLst/>
            <a:gdLst/>
            <a:ahLst/>
            <a:rect l="l" t="t" r="r" b="b"/>
            <a:pathLst>
              <a:path w="106" h="85">
                <a:moveTo>
                  <a:pt x="21" y="64"/>
                </a:moveTo>
                <a:lnTo>
                  <a:pt x="0" y="43"/>
                </a:lnTo>
                <a:lnTo>
                  <a:pt x="106" y="0"/>
                </a:lnTo>
                <a:lnTo>
                  <a:pt x="43" y="85"/>
                </a:lnTo>
                <a:lnTo>
                  <a:pt x="21" y="64"/>
                </a:lnTo>
                <a:close/>
              </a:path>
            </a:pathLst>
          </a:custGeom>
          <a:solidFill>
            <a:srgbClr val="000000"/>
          </a:solidFill>
          <a:ln w="49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2735280" y="3603240"/>
            <a:ext cx="674640" cy="539640"/>
          </a:xfrm>
          <a:prstGeom prst="line">
            <a:avLst/>
          </a:prstGeom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67160" y="2085840"/>
            <a:ext cx="168120" cy="135000"/>
          </a:xfrm>
          <a:custGeom>
            <a:avLst/>
            <a:gdLst/>
            <a:ahLst/>
            <a:rect l="l" t="t" r="r" b="b"/>
            <a:pathLst>
              <a:path w="106" h="85">
                <a:moveTo>
                  <a:pt x="85" y="64"/>
                </a:moveTo>
                <a:lnTo>
                  <a:pt x="85" y="85"/>
                </a:lnTo>
                <a:lnTo>
                  <a:pt x="0" y="0"/>
                </a:lnTo>
                <a:lnTo>
                  <a:pt x="106" y="42"/>
                </a:lnTo>
                <a:lnTo>
                  <a:pt x="85" y="64"/>
                </a:lnTo>
                <a:close/>
              </a:path>
            </a:pathLst>
          </a:custGeom>
          <a:solidFill>
            <a:srgbClr val="000000"/>
          </a:solidFill>
          <a:ln w="49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409920" y="2658960"/>
            <a:ext cx="168480" cy="135000"/>
          </a:xfrm>
          <a:custGeom>
            <a:avLst/>
            <a:gdLst/>
            <a:ahLst/>
            <a:rect l="l" t="t" r="r" b="b"/>
            <a:pathLst>
              <a:path w="106" h="85">
                <a:moveTo>
                  <a:pt x="21" y="21"/>
                </a:moveTo>
                <a:lnTo>
                  <a:pt x="43" y="0"/>
                </a:lnTo>
                <a:lnTo>
                  <a:pt x="106" y="85"/>
                </a:lnTo>
                <a:lnTo>
                  <a:pt x="0" y="43"/>
                </a:lnTo>
                <a:lnTo>
                  <a:pt x="21" y="21"/>
                </a:lnTo>
                <a:close/>
              </a:path>
            </a:pathLst>
          </a:custGeom>
          <a:solidFill>
            <a:srgbClr val="000000"/>
          </a:solidFill>
          <a:ln w="49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35280" y="2187720"/>
            <a:ext cx="708120" cy="504720"/>
          </a:xfrm>
          <a:prstGeom prst="line">
            <a:avLst/>
          </a:prstGeom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188120" y="1681200"/>
            <a:ext cx="1079640" cy="1079640"/>
          </a:xfrm>
          <a:prstGeom prst="ellipse">
            <a:avLst/>
          </a:prstGeom>
          <a:solidFill>
            <a:srgbClr val="ffffff"/>
          </a:solidFill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153200" y="2641680"/>
            <a:ext cx="185760" cy="185760"/>
          </a:xfrm>
          <a:custGeom>
            <a:avLst/>
            <a:gdLst/>
            <a:ahLst/>
            <a:rect l="l" t="t" r="r" b="b"/>
            <a:pathLst>
              <a:path w="85" h="85">
                <a:moveTo>
                  <a:pt x="22" y="64"/>
                </a:moveTo>
                <a:lnTo>
                  <a:pt x="0" y="43"/>
                </a:lnTo>
                <a:lnTo>
                  <a:pt x="85" y="0"/>
                </a:lnTo>
                <a:lnTo>
                  <a:pt x="43" y="85"/>
                </a:lnTo>
                <a:lnTo>
                  <a:pt x="22" y="64"/>
                </a:lnTo>
                <a:close/>
              </a:path>
            </a:pathLst>
          </a:custGeom>
          <a:solidFill>
            <a:srgbClr val="000000"/>
          </a:solidFill>
          <a:ln w="49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310440" y="3502080"/>
            <a:ext cx="134640" cy="168120"/>
          </a:xfrm>
          <a:custGeom>
            <a:avLst/>
            <a:gdLst/>
            <a:ahLst/>
            <a:rect l="l" t="t" r="r" b="b"/>
            <a:pathLst>
              <a:path w="85" h="106">
                <a:moveTo>
                  <a:pt x="64" y="21"/>
                </a:moveTo>
                <a:lnTo>
                  <a:pt x="85" y="43"/>
                </a:lnTo>
                <a:lnTo>
                  <a:pt x="0" y="106"/>
                </a:lnTo>
                <a:lnTo>
                  <a:pt x="43" y="0"/>
                </a:lnTo>
                <a:lnTo>
                  <a:pt x="64" y="21"/>
                </a:lnTo>
                <a:close/>
              </a:path>
            </a:pathLst>
          </a:custGeom>
          <a:solidFill>
            <a:srgbClr val="000000"/>
          </a:solidFill>
          <a:ln w="49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6445080" y="2793960"/>
            <a:ext cx="743040" cy="741240"/>
          </a:xfrm>
          <a:prstGeom prst="line">
            <a:avLst/>
          </a:prstGeom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88120" y="3097080"/>
            <a:ext cx="1079640" cy="1113120"/>
          </a:xfrm>
          <a:prstGeom prst="ellipse">
            <a:avLst/>
          </a:prstGeom>
          <a:solidFill>
            <a:srgbClr val="ffffff"/>
          </a:solidFill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88120" y="4479840"/>
            <a:ext cx="1079640" cy="1112760"/>
          </a:xfrm>
          <a:prstGeom prst="ellipse">
            <a:avLst/>
          </a:prstGeom>
          <a:solidFill>
            <a:srgbClr val="ffffff"/>
          </a:solidFill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478560" y="3840120"/>
            <a:ext cx="169920" cy="100080"/>
          </a:xfrm>
          <a:custGeom>
            <a:avLst/>
            <a:gdLst/>
            <a:ahLst/>
            <a:rect l="l" t="t" r="r" b="b"/>
            <a:pathLst>
              <a:path w="107" h="63">
                <a:moveTo>
                  <a:pt x="107" y="42"/>
                </a:moveTo>
                <a:lnTo>
                  <a:pt x="107" y="63"/>
                </a:lnTo>
                <a:lnTo>
                  <a:pt x="0" y="63"/>
                </a:lnTo>
                <a:lnTo>
                  <a:pt x="107" y="0"/>
                </a:lnTo>
                <a:lnTo>
                  <a:pt x="107" y="42"/>
                </a:lnTo>
                <a:close/>
              </a:path>
            </a:pathLst>
          </a:custGeom>
          <a:solidFill>
            <a:srgbClr val="000000"/>
          </a:solidFill>
          <a:ln w="49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951600" y="3754440"/>
            <a:ext cx="219240" cy="119160"/>
          </a:xfrm>
          <a:custGeom>
            <a:avLst/>
            <a:gdLst/>
            <a:ahLst/>
            <a:rect l="l" t="t" r="r" b="b"/>
            <a:pathLst>
              <a:path w="106" h="64">
                <a:moveTo>
                  <a:pt x="0" y="21"/>
                </a:moveTo>
                <a:lnTo>
                  <a:pt x="0" y="0"/>
                </a:lnTo>
                <a:lnTo>
                  <a:pt x="106" y="0"/>
                </a:lnTo>
                <a:lnTo>
                  <a:pt x="21" y="64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49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6648480" y="3805200"/>
            <a:ext cx="303120" cy="101520"/>
          </a:xfrm>
          <a:prstGeom prst="line">
            <a:avLst/>
          </a:prstGeom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45080" y="4344840"/>
            <a:ext cx="135000" cy="135000"/>
          </a:xfrm>
          <a:custGeom>
            <a:avLst/>
            <a:gdLst/>
            <a:ahLst/>
            <a:rect l="l" t="t" r="r" b="b"/>
            <a:pathLst>
              <a:path w="85" h="85">
                <a:moveTo>
                  <a:pt x="85" y="43"/>
                </a:moveTo>
                <a:lnTo>
                  <a:pt x="64" y="85"/>
                </a:lnTo>
                <a:lnTo>
                  <a:pt x="0" y="0"/>
                </a:lnTo>
                <a:lnTo>
                  <a:pt x="85" y="21"/>
                </a:lnTo>
                <a:lnTo>
                  <a:pt x="85" y="43"/>
                </a:lnTo>
                <a:close/>
              </a:path>
            </a:pathLst>
          </a:custGeom>
          <a:solidFill>
            <a:srgbClr val="000000"/>
          </a:solidFill>
          <a:ln w="49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018200" y="4683240"/>
            <a:ext cx="169920" cy="135000"/>
          </a:xfrm>
          <a:custGeom>
            <a:avLst/>
            <a:gdLst/>
            <a:ahLst/>
            <a:rect l="l" t="t" r="r" b="b"/>
            <a:pathLst>
              <a:path w="107" h="85">
                <a:moveTo>
                  <a:pt x="22" y="21"/>
                </a:moveTo>
                <a:lnTo>
                  <a:pt x="22" y="0"/>
                </a:lnTo>
                <a:lnTo>
                  <a:pt x="107" y="85"/>
                </a:lnTo>
                <a:lnTo>
                  <a:pt x="0" y="63"/>
                </a:lnTo>
                <a:lnTo>
                  <a:pt x="22" y="21"/>
                </a:lnTo>
                <a:close/>
              </a:path>
            </a:pathLst>
          </a:custGeom>
          <a:solidFill>
            <a:srgbClr val="000000"/>
          </a:solidFill>
          <a:ln w="49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580080" y="4446720"/>
            <a:ext cx="438120" cy="269640"/>
          </a:xfrm>
          <a:prstGeom prst="line">
            <a:avLst/>
          </a:prstGeom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771720" y="2978280"/>
            <a:ext cx="573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640120" y="3919680"/>
            <a:ext cx="573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448040" y="4862520"/>
            <a:ext cx="573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448040" y="3497400"/>
            <a:ext cx="573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448040" y="1996920"/>
            <a:ext cx="573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640120" y="2014560"/>
            <a:ext cx="573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773360" y="1932120"/>
            <a:ext cx="588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773360" y="3008160"/>
            <a:ext cx="588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773360" y="4105440"/>
            <a:ext cx="588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rt of the X.500 Directory Information Tree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843120" y="1328760"/>
            <a:ext cx="7943760" cy="4781520"/>
            <a:chOff x="843120" y="1328760"/>
            <a:chExt cx="7943760" cy="4781520"/>
          </a:xfrm>
        </p:grpSpPr>
        <p:sp>
          <p:nvSpPr>
            <p:cNvPr id="710" name=""/>
            <p:cNvSpPr/>
            <p:nvPr/>
          </p:nvSpPr>
          <p:spPr>
            <a:xfrm>
              <a:off x="2600280" y="221760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923200" y="2217600"/>
              <a:ext cx="1207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ance (country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41880" y="2217600"/>
              <a:ext cx="1619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reat Britain (country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907960" y="2217600"/>
              <a:ext cx="1235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reece (country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22960" y="221760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3657240" y="1533600"/>
              <a:ext cx="973080" cy="61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49760" y="1533600"/>
              <a:ext cx="100080" cy="61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70280" y="1533600"/>
              <a:ext cx="1290960" cy="61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153600" y="3130560"/>
              <a:ext cx="1536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BT Plc (organizati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81160" y="3130560"/>
              <a:ext cx="2999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University of Gormenghast (organizati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32120" y="313056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82000" y="313056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3776760" y="2427120"/>
              <a:ext cx="952560" cy="65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749840" y="2427120"/>
              <a:ext cx="496800" cy="67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630520" y="4108320"/>
              <a:ext cx="3914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Department of Computer Science (organizational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329840" y="3870360"/>
              <a:ext cx="286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Computing Service (organizational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284800" y="4349880"/>
              <a:ext cx="3255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Engineering Department (organizational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84320" y="390996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294760" y="440208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2743200" y="3321000"/>
              <a:ext cx="2104920" cy="55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4670280" y="3320640"/>
              <a:ext cx="198720" cy="75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4868640" y="3341520"/>
              <a:ext cx="2073240" cy="9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67920" y="1328760"/>
              <a:ext cx="1463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X.500 Service (roo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638440" y="4965840"/>
              <a:ext cx="2844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Departmental Staff (organizational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914800" y="5442120"/>
              <a:ext cx="2872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Research Students (organizational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41360" y="5203800"/>
              <a:ext cx="174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ely (applicationProces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405160" y="49975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234280" y="54943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4352760" y="4314960"/>
              <a:ext cx="198720" cy="67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530600" y="4294080"/>
              <a:ext cx="1390680" cy="90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30600" y="4294080"/>
              <a:ext cx="2900520" cy="11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085760" y="5911920"/>
              <a:ext cx="1774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Alice Flintstone (pers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186000" y="5911920"/>
              <a:ext cx="1280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at King (pers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51480" y="5911920"/>
              <a:ext cx="170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James Healey (pers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372520" y="59119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43120" y="59119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292640" y="5288040"/>
              <a:ext cx="81432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3895200" y="5288040"/>
              <a:ext cx="35748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2306160" y="5288040"/>
              <a:ext cx="1886040" cy="55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52760" y="5911920"/>
              <a:ext cx="203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Janet Papworth (perso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332240" y="5288040"/>
              <a:ext cx="2184480" cy="62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06720" y="585144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n X.500 DIB Entry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194440" y="5724360"/>
            <a:ext cx="2196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1158840" y="1440000"/>
            <a:ext cx="8161200" cy="4284360"/>
            <a:chOff x="1158840" y="1440000"/>
            <a:chExt cx="8161200" cy="4284360"/>
          </a:xfrm>
        </p:grpSpPr>
        <p:sp>
          <p:nvSpPr>
            <p:cNvPr id="755" name=""/>
            <p:cNvSpPr/>
            <p:nvPr/>
          </p:nvSpPr>
          <p:spPr>
            <a:xfrm>
              <a:off x="1191240" y="1473120"/>
              <a:ext cx="35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359000" y="1770120"/>
              <a:ext cx="6264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Alice Flintstone, Departmental Staff, Department of Computer Science,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729080" y="1996920"/>
              <a:ext cx="2777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University of Gormenghast, G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158840" y="1440000"/>
              <a:ext cx="79106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9093240" y="1440000"/>
              <a:ext cx="2232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58840" y="1461960"/>
              <a:ext cx="22320" cy="102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093240" y="1461960"/>
              <a:ext cx="22320" cy="102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188360" y="2498760"/>
              <a:ext cx="1241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commonNa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189440" y="2795760"/>
              <a:ext cx="1793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Alice.L.Flintst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991240" y="2795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90520" y="3022560"/>
              <a:ext cx="1605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Alice.Flintst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08720" y="3022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190520" y="3251160"/>
              <a:ext cx="1605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Alice Flintst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86400" y="32511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189800" y="3478320"/>
              <a:ext cx="1349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A. Flintst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90880" y="3962520"/>
              <a:ext cx="745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surna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874160" y="3753000"/>
              <a:ext cx="22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966320" y="37530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191600" y="4257720"/>
              <a:ext cx="1082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Flintst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189800" y="4740120"/>
              <a:ext cx="1538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telephoneNumb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87640" y="5037120"/>
              <a:ext cx="1697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+44 986 33 460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227560" y="2498760"/>
              <a:ext cx="27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25040" y="2886120"/>
              <a:ext cx="5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l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818680" y="288612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227200" y="3273480"/>
              <a:ext cx="40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a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636160" y="3273480"/>
              <a:ext cx="11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21080" y="3625920"/>
              <a:ext cx="2678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alf@dcs.gormenghast.ac.u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485680" y="3979800"/>
              <a:ext cx="3562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Alice.Flintstone@dcs.gormenghast.ac.u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225040" y="4321080"/>
              <a:ext cx="115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roomNumb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97120" y="4321080"/>
              <a:ext cx="22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88920" y="4321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224680" y="4708440"/>
              <a:ext cx="623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Z4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227560" y="5051520"/>
              <a:ext cx="852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serClas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222520" y="5438880"/>
              <a:ext cx="1722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esearch Fello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158840" y="2487600"/>
              <a:ext cx="22320" cy="32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158840" y="5702400"/>
              <a:ext cx="4011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194440" y="2487600"/>
              <a:ext cx="21960" cy="32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94440" y="5702400"/>
              <a:ext cx="144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216400" y="5702400"/>
              <a:ext cx="3853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9093240" y="2487600"/>
              <a:ext cx="22320" cy="32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9093240" y="5702400"/>
              <a:ext cx="22680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mposed naming domains used to access a resource from a U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11280" y="1336680"/>
            <a:ext cx="8326080" cy="4556160"/>
            <a:chOff x="611280" y="1336680"/>
            <a:chExt cx="8326080" cy="4556160"/>
          </a:xfrm>
        </p:grpSpPr>
        <p:sp>
          <p:nvSpPr>
            <p:cNvPr id="89" name=""/>
            <p:cNvSpPr/>
            <p:nvPr/>
          </p:nvSpPr>
          <p:spPr>
            <a:xfrm>
              <a:off x="2549520" y="3040200"/>
              <a:ext cx="5041800" cy="6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49520" y="3040200"/>
              <a:ext cx="5070600" cy="68400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24600" y="4151160"/>
              <a:ext cx="1623960" cy="16527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24600" y="4151160"/>
              <a:ext cx="1652400" cy="1681200"/>
            </a:xfrm>
            <a:prstGeom prst="rect">
              <a:avLst/>
            </a:prstGeom>
            <a:noFill/>
            <a:ln w="4140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67520" y="4294080"/>
              <a:ext cx="1368360" cy="1395360"/>
            </a:xfrm>
            <a:prstGeom prst="ellipse">
              <a:avLst/>
            </a:prstGeom>
            <a:solidFill>
              <a:srgbClr val="ffffff"/>
            </a:solidFill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39960" y="1735200"/>
              <a:ext cx="517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ttp://www.cdk3.net:8888/WebExamples/earth.ht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51320" y="133668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62760" y="2727360"/>
              <a:ext cx="503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ID (IP number, port number, pathna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0640" y="4498920"/>
              <a:ext cx="171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work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70480" y="4962600"/>
              <a:ext cx="1573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:60:8c:2:b0:5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00600" y="4876920"/>
              <a:ext cx="356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33760" y="3125880"/>
              <a:ext cx="1396800" cy="51264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84840" y="3125880"/>
              <a:ext cx="2651040" cy="51264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1280" y="4807080"/>
              <a:ext cx="1993680" cy="45540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79680" y="1643040"/>
              <a:ext cx="5927760" cy="45720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69160" y="4192560"/>
              <a:ext cx="116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51840" y="3274920"/>
              <a:ext cx="120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.55.55.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79480" y="4294080"/>
              <a:ext cx="200160" cy="169920"/>
            </a:xfrm>
            <a:custGeom>
              <a:avLst/>
              <a:gdLst/>
              <a:ahLst/>
              <a:rect l="l" t="t" r="r" b="b"/>
              <a:pathLst>
                <a:path w="126" h="107">
                  <a:moveTo>
                    <a:pt x="108" y="36"/>
                  </a:moveTo>
                  <a:lnTo>
                    <a:pt x="126" y="72"/>
                  </a:lnTo>
                  <a:lnTo>
                    <a:pt x="0" y="107"/>
                  </a:lnTo>
                  <a:lnTo>
                    <a:pt x="90" y="0"/>
                  </a:lnTo>
                  <a:lnTo>
                    <a:pt x="108" y="36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979280" y="3610080"/>
              <a:ext cx="1281240" cy="7412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54680" y="4749840"/>
              <a:ext cx="198360" cy="171360"/>
            </a:xfrm>
            <a:custGeom>
              <a:avLst/>
              <a:gdLst/>
              <a:ahLst/>
              <a:rect l="l" t="t" r="r" b="b"/>
              <a:pathLst>
                <a:path w="125" h="108">
                  <a:moveTo>
                    <a:pt x="17" y="18"/>
                  </a:moveTo>
                  <a:lnTo>
                    <a:pt x="53" y="0"/>
                  </a:lnTo>
                  <a:lnTo>
                    <a:pt x="125" y="108"/>
                  </a:lnTo>
                  <a:lnTo>
                    <a:pt x="0" y="54"/>
                  </a:lnTo>
                  <a:lnTo>
                    <a:pt x="17" y="18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4457520" y="3609720"/>
              <a:ext cx="1423800" cy="11682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57200" y="3274920"/>
              <a:ext cx="255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ebExamples/earth.ht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37240" y="4749840"/>
              <a:ext cx="627120" cy="42696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17960" y="2868480"/>
              <a:ext cx="114120" cy="20016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36" y="0"/>
                  </a:moveTo>
                  <a:lnTo>
                    <a:pt x="72" y="0"/>
                  </a:lnTo>
                  <a:lnTo>
                    <a:pt x="36" y="12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74840" y="1986120"/>
              <a:ext cx="1800" cy="8539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83320" y="4978440"/>
              <a:ext cx="198360" cy="112680"/>
            </a:xfrm>
            <a:custGeom>
              <a:avLst/>
              <a:gdLst/>
              <a:ahLst/>
              <a:rect l="l" t="t" r="r" b="b"/>
              <a:pathLst>
                <a:path w="125" h="71">
                  <a:moveTo>
                    <a:pt x="0" y="35"/>
                  </a:moveTo>
                  <a:lnTo>
                    <a:pt x="0" y="0"/>
                  </a:lnTo>
                  <a:lnTo>
                    <a:pt x="125" y="35"/>
                  </a:lnTo>
                  <a:lnTo>
                    <a:pt x="0" y="7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76520" y="5033880"/>
              <a:ext cx="307800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7800" y="3125880"/>
              <a:ext cx="739800" cy="51264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07680" y="327492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8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66040" y="4549680"/>
              <a:ext cx="142560" cy="200160"/>
            </a:xfrm>
            <a:custGeom>
              <a:avLst/>
              <a:gdLst/>
              <a:ahLst/>
              <a:rect l="l" t="t" r="r" b="b"/>
              <a:pathLst>
                <a:path w="90" h="126">
                  <a:moveTo>
                    <a:pt x="36" y="0"/>
                  </a:moveTo>
                  <a:lnTo>
                    <a:pt x="72" y="0"/>
                  </a:lnTo>
                  <a:lnTo>
                    <a:pt x="90" y="126"/>
                  </a:lnTo>
                  <a:lnTo>
                    <a:pt x="0" y="18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6138720" y="3610080"/>
              <a:ext cx="455760" cy="9396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91800" y="2397240"/>
              <a:ext cx="121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look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711760" y="5119560"/>
              <a:ext cx="426960" cy="5698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87800" y="5618160"/>
              <a:ext cx="698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c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6159600" y="4908600"/>
              <a:ext cx="27144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6176880" y="4890960"/>
              <a:ext cx="295200" cy="20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terative navig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6880" y="4484520"/>
            <a:ext cx="8499600" cy="41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28640" y="2066760"/>
            <a:ext cx="7056720" cy="3259800"/>
            <a:chOff x="728640" y="2066760"/>
            <a:chExt cx="7056720" cy="3259800"/>
          </a:xfrm>
        </p:grpSpPr>
        <p:sp>
          <p:nvSpPr>
            <p:cNvPr id="128" name=""/>
            <p:cNvSpPr/>
            <p:nvPr/>
          </p:nvSpPr>
          <p:spPr>
            <a:xfrm>
              <a:off x="3915000" y="2066760"/>
              <a:ext cx="2565360" cy="27115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15000" y="2066760"/>
              <a:ext cx="2589120" cy="273528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62600" y="3117600"/>
              <a:ext cx="757080" cy="78120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38920" y="2165040"/>
              <a:ext cx="806400" cy="80640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77120" y="3874680"/>
              <a:ext cx="780840" cy="8067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3200" y="3362040"/>
              <a:ext cx="708120" cy="463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43280" y="348444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75080" y="3581280"/>
              <a:ext cx="122400" cy="48960"/>
            </a:xfrm>
            <a:custGeom>
              <a:avLst/>
              <a:gdLst/>
              <a:ahLst/>
              <a:rect l="l" t="t" r="r" b="b"/>
              <a:pathLst>
                <a:path w="77" h="31">
                  <a:moveTo>
                    <a:pt x="62" y="16"/>
                  </a:moveTo>
                  <a:lnTo>
                    <a:pt x="77" y="31"/>
                  </a:lnTo>
                  <a:lnTo>
                    <a:pt x="0" y="31"/>
                  </a:lnTo>
                  <a:lnTo>
                    <a:pt x="62" y="0"/>
                  </a:lnTo>
                  <a:lnTo>
                    <a:pt x="62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91240" y="3508200"/>
              <a:ext cx="145800" cy="7308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15" y="31"/>
                  </a:moveTo>
                  <a:lnTo>
                    <a:pt x="0" y="0"/>
                  </a:lnTo>
                  <a:lnTo>
                    <a:pt x="92" y="15"/>
                  </a:lnTo>
                  <a:lnTo>
                    <a:pt x="15" y="46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597480" y="3556800"/>
              <a:ext cx="293760" cy="49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75080" y="3336480"/>
              <a:ext cx="122400" cy="7488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62" y="16"/>
                  </a:moveTo>
                  <a:lnTo>
                    <a:pt x="77" y="4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62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92760" y="2701800"/>
              <a:ext cx="122400" cy="7452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15" y="31"/>
                  </a:moveTo>
                  <a:lnTo>
                    <a:pt x="0" y="16"/>
                  </a:lnTo>
                  <a:lnTo>
                    <a:pt x="77" y="0"/>
                  </a:lnTo>
                  <a:lnTo>
                    <a:pt x="15" y="47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573720" y="2750760"/>
              <a:ext cx="1319040" cy="6112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05400" y="4192200"/>
              <a:ext cx="122400" cy="7308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0" y="31"/>
                  </a:moveTo>
                  <a:lnTo>
                    <a:pt x="15" y="0"/>
                  </a:lnTo>
                  <a:lnTo>
                    <a:pt x="77" y="46"/>
                  </a:lnTo>
                  <a:lnTo>
                    <a:pt x="0" y="4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75080" y="3703320"/>
              <a:ext cx="122400" cy="49320"/>
            </a:xfrm>
            <a:custGeom>
              <a:avLst/>
              <a:gdLst/>
              <a:ahLst/>
              <a:rect l="l" t="t" r="r" b="b"/>
              <a:pathLst>
                <a:path w="77" h="31">
                  <a:moveTo>
                    <a:pt x="62" y="16"/>
                  </a:moveTo>
                  <a:lnTo>
                    <a:pt x="62" y="31"/>
                  </a:lnTo>
                  <a:lnTo>
                    <a:pt x="0" y="0"/>
                  </a:lnTo>
                  <a:lnTo>
                    <a:pt x="77" y="0"/>
                  </a:lnTo>
                  <a:lnTo>
                    <a:pt x="62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3597480" y="3728880"/>
              <a:ext cx="1807920" cy="5126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82800" y="33447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06560" y="2995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82800" y="3863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8640" y="5082840"/>
              <a:ext cx="70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 client iteratively contacts name servers NS1–NS3 in order to resolve a 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63560" y="2430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61680" y="33588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87360" y="41572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67160" y="320184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67520" y="3420720"/>
              <a:ext cx="6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3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on-recursive and recursive server-controlled navig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46120" y="1887480"/>
            <a:ext cx="8582040" cy="3820680"/>
            <a:chOff x="546120" y="1887480"/>
            <a:chExt cx="8582040" cy="3820680"/>
          </a:xfrm>
        </p:grpSpPr>
        <p:sp>
          <p:nvSpPr>
            <p:cNvPr id="155" name=""/>
            <p:cNvSpPr/>
            <p:nvPr/>
          </p:nvSpPr>
          <p:spPr>
            <a:xfrm>
              <a:off x="6021360" y="1887480"/>
              <a:ext cx="2589120" cy="27367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21360" y="1887480"/>
              <a:ext cx="2612880" cy="276048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45120" y="3366720"/>
              <a:ext cx="123840" cy="7272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0" y="31"/>
                  </a:moveTo>
                  <a:lnTo>
                    <a:pt x="0" y="0"/>
                  </a:lnTo>
                  <a:lnTo>
                    <a:pt x="78" y="31"/>
                  </a:lnTo>
                  <a:lnTo>
                    <a:pt x="0" y="4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576400" y="3416040"/>
              <a:ext cx="444600" cy="10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05680" y="2651040"/>
              <a:ext cx="123840" cy="9792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16" y="47"/>
                  </a:moveTo>
                  <a:lnTo>
                    <a:pt x="0" y="31"/>
                  </a:lnTo>
                  <a:lnTo>
                    <a:pt x="78" y="0"/>
                  </a:lnTo>
                  <a:lnTo>
                    <a:pt x="31" y="62"/>
                  </a:lnTo>
                  <a:lnTo>
                    <a:pt x="16" y="4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735600" y="2749320"/>
              <a:ext cx="395280" cy="345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0000" y="3563640"/>
              <a:ext cx="49320" cy="123480"/>
            </a:xfrm>
            <a:custGeom>
              <a:avLst/>
              <a:gdLst/>
              <a:ahLst/>
              <a:rect l="l" t="t" r="r" b="b"/>
              <a:pathLst>
                <a:path w="31" h="78">
                  <a:moveTo>
                    <a:pt x="15" y="0"/>
                  </a:moveTo>
                  <a:lnTo>
                    <a:pt x="31" y="0"/>
                  </a:lnTo>
                  <a:lnTo>
                    <a:pt x="31" y="78"/>
                  </a:lnTo>
                  <a:lnTo>
                    <a:pt x="0" y="1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97880" y="2725560"/>
              <a:ext cx="74520" cy="121680"/>
            </a:xfrm>
            <a:custGeom>
              <a:avLst/>
              <a:gdLst/>
              <a:ahLst/>
              <a:rect l="l" t="t" r="r" b="b"/>
              <a:pathLst>
                <a:path w="47" h="77">
                  <a:moveTo>
                    <a:pt x="1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7" y="77"/>
                  </a:lnTo>
                  <a:lnTo>
                    <a:pt x="15" y="7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7721280" y="2847600"/>
              <a:ext cx="222120" cy="7156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6760" y="3514320"/>
              <a:ext cx="123840" cy="7272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8" y="31"/>
                  </a:moveTo>
                  <a:lnTo>
                    <a:pt x="78" y="46"/>
                  </a:lnTo>
                  <a:lnTo>
                    <a:pt x="0" y="31"/>
                  </a:lnTo>
                  <a:lnTo>
                    <a:pt x="78" y="0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700240" y="3563640"/>
              <a:ext cx="4683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86280" y="31590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97520" y="2701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891200" y="3039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86280" y="3620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52560" y="1911240"/>
              <a:ext cx="2589120" cy="2736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52560" y="1911240"/>
              <a:ext cx="2614680" cy="2761560"/>
            </a:xfrm>
            <a:prstGeom prst="rect">
              <a:avLst/>
            </a:prstGeom>
            <a:noFill/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4400" y="3266640"/>
              <a:ext cx="765360" cy="4698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78120" y="3390480"/>
              <a:ext cx="123840" cy="74520"/>
            </a:xfrm>
            <a:custGeom>
              <a:avLst/>
              <a:gdLst/>
              <a:ahLst/>
              <a:rect l="l" t="t" r="r" b="b"/>
              <a:pathLst>
                <a:path w="78" h="47">
                  <a:moveTo>
                    <a:pt x="0" y="16"/>
                  </a:moveTo>
                  <a:lnTo>
                    <a:pt x="0" y="0"/>
                  </a:lnTo>
                  <a:lnTo>
                    <a:pt x="78" y="16"/>
                  </a:lnTo>
                  <a:lnTo>
                    <a:pt x="0" y="4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383840" y="3416040"/>
              <a:ext cx="468360" cy="10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87640" y="2700000"/>
              <a:ext cx="123840" cy="9828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15" y="47"/>
                  </a:moveTo>
                  <a:lnTo>
                    <a:pt x="0" y="31"/>
                  </a:lnTo>
                  <a:lnTo>
                    <a:pt x="78" y="0"/>
                  </a:lnTo>
                  <a:lnTo>
                    <a:pt x="31" y="62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41680" y="3020760"/>
              <a:ext cx="123840" cy="1234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63" y="16"/>
                  </a:moveTo>
                  <a:lnTo>
                    <a:pt x="78" y="31"/>
                  </a:lnTo>
                  <a:lnTo>
                    <a:pt x="0" y="78"/>
                  </a:lnTo>
                  <a:lnTo>
                    <a:pt x="47" y="0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741400" y="2798640"/>
              <a:ext cx="269640" cy="2473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65520" y="3687480"/>
              <a:ext cx="123840" cy="7272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8" y="31"/>
                  </a:moveTo>
                  <a:lnTo>
                    <a:pt x="62" y="46"/>
                  </a:lnTo>
                  <a:lnTo>
                    <a:pt x="0" y="0"/>
                  </a:lnTo>
                  <a:lnTo>
                    <a:pt x="78" y="15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06680" y="3908160"/>
              <a:ext cx="123840" cy="74160"/>
            </a:xfrm>
            <a:custGeom>
              <a:avLst/>
              <a:gdLst/>
              <a:ahLst/>
              <a:rect l="l" t="t" r="r" b="b"/>
              <a:pathLst>
                <a:path w="78" h="47">
                  <a:moveTo>
                    <a:pt x="0" y="31"/>
                  </a:moveTo>
                  <a:lnTo>
                    <a:pt x="16" y="0"/>
                  </a:lnTo>
                  <a:lnTo>
                    <a:pt x="78" y="47"/>
                  </a:lnTo>
                  <a:lnTo>
                    <a:pt x="0" y="4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89360" y="3736800"/>
              <a:ext cx="517320" cy="1965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84200" y="3538440"/>
              <a:ext cx="123840" cy="74160"/>
            </a:xfrm>
            <a:custGeom>
              <a:avLst/>
              <a:gdLst/>
              <a:ahLst/>
              <a:rect l="l" t="t" r="r" b="b"/>
              <a:pathLst>
                <a:path w="78" h="47">
                  <a:moveTo>
                    <a:pt x="78" y="31"/>
                  </a:moveTo>
                  <a:lnTo>
                    <a:pt x="78" y="47"/>
                  </a:lnTo>
                  <a:lnTo>
                    <a:pt x="0" y="31"/>
                  </a:lnTo>
                  <a:lnTo>
                    <a:pt x="78" y="0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507680" y="3587400"/>
              <a:ext cx="46836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80760" y="3106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92080" y="27507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80960" y="35971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93360" y="3673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83560" y="3070080"/>
              <a:ext cx="123840" cy="9792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62" y="16"/>
                  </a:moveTo>
                  <a:lnTo>
                    <a:pt x="78" y="31"/>
                  </a:lnTo>
                  <a:lnTo>
                    <a:pt x="0" y="62"/>
                  </a:lnTo>
                  <a:lnTo>
                    <a:pt x="47" y="0"/>
                  </a:lnTo>
                  <a:lnTo>
                    <a:pt x="62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981840" y="2675880"/>
              <a:ext cx="493560" cy="4186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40320" y="2982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6120" y="5412960"/>
              <a:ext cx="858204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1240" y="5424120"/>
              <a:ext cx="717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 name server NS1 communicates with other name servers on behalf of a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0280" y="3374640"/>
              <a:ext cx="47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81680" y="3374640"/>
              <a:ext cx="47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0000" y="4782960"/>
              <a:ext cx="90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curs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34440" y="5005080"/>
              <a:ext cx="151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-controll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36960" y="3266640"/>
              <a:ext cx="765360" cy="46980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11400" y="1985760"/>
              <a:ext cx="814320" cy="81252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37840" y="22366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01960" y="3046320"/>
              <a:ext cx="812520" cy="81216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18680" y="331452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54280" y="3736800"/>
              <a:ext cx="814680" cy="81252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71360" y="40050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30880" y="1936440"/>
              <a:ext cx="812880" cy="81252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65240" y="2187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19640" y="2997000"/>
              <a:ext cx="812880" cy="81252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46080" y="32652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72320" y="3687480"/>
              <a:ext cx="814320" cy="812520"/>
            </a:xfrm>
            <a:prstGeom prst="ellipse">
              <a:avLst/>
            </a:prstGeom>
            <a:solidFill>
              <a:srgbClr val="ffffff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98760" y="39556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33760" y="4782960"/>
              <a:ext cx="1263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n-recurs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13160" y="5005080"/>
              <a:ext cx="151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-controll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NS name serv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81320" y="5942160"/>
            <a:ext cx="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03520" y="5775480"/>
            <a:ext cx="5749920" cy="26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9760" y="1380960"/>
            <a:ext cx="21668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Name server names are in italics, and the corresponding domains are in parenthe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8160" y="1959120"/>
            <a:ext cx="242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s denote name server ent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914560" y="1374840"/>
            <a:ext cx="5890320" cy="4631040"/>
            <a:chOff x="2914560" y="1374840"/>
            <a:chExt cx="5890320" cy="4631040"/>
          </a:xfrm>
        </p:grpSpPr>
        <p:sp>
          <p:nvSpPr>
            <p:cNvPr id="217" name=""/>
            <p:cNvSpPr/>
            <p:nvPr/>
          </p:nvSpPr>
          <p:spPr>
            <a:xfrm>
              <a:off x="2914560" y="2607120"/>
              <a:ext cx="1307880" cy="9723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14560" y="2607120"/>
              <a:ext cx="1326240" cy="9928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40200" y="4630320"/>
              <a:ext cx="1309320" cy="974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40200" y="4630320"/>
              <a:ext cx="1327680" cy="99324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15720" y="4630320"/>
              <a:ext cx="1290600" cy="974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15720" y="4630320"/>
              <a:ext cx="1309320" cy="99324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33840" y="2988720"/>
              <a:ext cx="1288800" cy="974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33840" y="2988720"/>
              <a:ext cx="1307520" cy="99288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70920" y="3045240"/>
              <a:ext cx="1214640" cy="898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88360" y="4630320"/>
              <a:ext cx="1290600" cy="974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88360" y="4630320"/>
              <a:ext cx="1309320" cy="99324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32360" y="1785600"/>
              <a:ext cx="1309320" cy="97416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32360" y="1785600"/>
              <a:ext cx="1328040" cy="99324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3120" y="3485520"/>
              <a:ext cx="1307520" cy="9727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03120" y="3485520"/>
              <a:ext cx="1326240" cy="993240"/>
            </a:xfrm>
            <a:prstGeom prst="rect">
              <a:avLst/>
            </a:prstGeom>
            <a:noFill/>
            <a:ln w="255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95720" y="1374840"/>
              <a:ext cx="1198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.root-servers.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520" y="1565280"/>
              <a:ext cx="36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oo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08320" y="1881720"/>
              <a:ext cx="1196640" cy="840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40200" y="3542040"/>
              <a:ext cx="121536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44160" y="4726440"/>
              <a:ext cx="1178280" cy="821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77280" y="4726440"/>
              <a:ext cx="1233360" cy="821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34440" y="4726440"/>
              <a:ext cx="1196640" cy="821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27240" y="3055680"/>
              <a:ext cx="66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ns0.ja.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92760" y="322776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ac.u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95920" y="5650920"/>
              <a:ext cx="138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dns0.dcs.qmw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17240" y="5823000"/>
              <a:ext cx="111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dcs.qmw.ac.u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41280" y="5650920"/>
              <a:ext cx="114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alpha.qmw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24080" y="5823000"/>
              <a:ext cx="83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qmw.ac.u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5520" y="5650920"/>
              <a:ext cx="1190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dns0-doc.ic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02560" y="5823000"/>
              <a:ext cx="61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ic.ac.u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24240" y="2577960"/>
              <a:ext cx="980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ns.purdue.e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1120" y="2749680"/>
              <a:ext cx="87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purdue.ed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05960" y="202248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58800" y="2194200"/>
              <a:ext cx="77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urdue.e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19120" y="3760560"/>
              <a:ext cx="51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c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18400" y="4009680"/>
              <a:ext cx="73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qmw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85560" y="5003280"/>
              <a:ext cx="101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dcs.qmw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23360" y="5193720"/>
              <a:ext cx="83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*.qmw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63400" y="5059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*.ic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16520" y="4984200"/>
              <a:ext cx="1113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*.dcs.qmw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51720" y="2988720"/>
              <a:ext cx="92520" cy="5616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11" y="11"/>
                  </a:moveTo>
                  <a:lnTo>
                    <a:pt x="11" y="0"/>
                  </a:lnTo>
                  <a:lnTo>
                    <a:pt x="55" y="33"/>
                  </a:lnTo>
                  <a:lnTo>
                    <a:pt x="0" y="33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5942520" y="2282040"/>
              <a:ext cx="1609200" cy="72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65360" y="4650840"/>
              <a:ext cx="92160" cy="5616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11" y="11"/>
                  </a:moveTo>
                  <a:lnTo>
                    <a:pt x="22" y="0"/>
                  </a:lnTo>
                  <a:lnTo>
                    <a:pt x="55" y="33"/>
                  </a:lnTo>
                  <a:lnTo>
                    <a:pt x="0" y="22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5654520" y="3901320"/>
              <a:ext cx="1428840" cy="76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64240" y="5070240"/>
              <a:ext cx="93960" cy="56160"/>
            </a:xfrm>
            <a:custGeom>
              <a:avLst/>
              <a:gdLst/>
              <a:ahLst/>
              <a:rect l="l" t="t" r="r" b="b"/>
              <a:pathLst>
                <a:path w="56" h="33">
                  <a:moveTo>
                    <a:pt x="0" y="22"/>
                  </a:moveTo>
                  <a:lnTo>
                    <a:pt x="0" y="0"/>
                  </a:lnTo>
                  <a:lnTo>
                    <a:pt x="56" y="22"/>
                  </a:lnTo>
                  <a:lnTo>
                    <a:pt x="0" y="3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02280" y="5108040"/>
              <a:ext cx="54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11680" y="3397680"/>
              <a:ext cx="92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* .purdue.e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88360" y="2644920"/>
              <a:ext cx="1215360" cy="89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43080" y="2663640"/>
              <a:ext cx="92160" cy="5832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11"/>
                  </a:moveTo>
                  <a:lnTo>
                    <a:pt x="55" y="22"/>
                  </a:lnTo>
                  <a:lnTo>
                    <a:pt x="0" y="34"/>
                  </a:lnTo>
                  <a:lnTo>
                    <a:pt x="44" y="0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4035600" y="2110320"/>
              <a:ext cx="1122480" cy="57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57760" y="219636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ns1.ni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17320" y="236808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u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73920" y="313128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77280" y="3619440"/>
              <a:ext cx="93960" cy="37800"/>
            </a:xfrm>
            <a:custGeom>
              <a:avLst/>
              <a:gdLst/>
              <a:ahLst/>
              <a:rect l="l" t="t" r="r" b="b"/>
              <a:pathLst>
                <a:path w="56" h="22">
                  <a:moveTo>
                    <a:pt x="11" y="11"/>
                  </a:moveTo>
                  <a:lnTo>
                    <a:pt x="11" y="0"/>
                  </a:lnTo>
                  <a:lnTo>
                    <a:pt x="56" y="22"/>
                  </a:lnTo>
                  <a:lnTo>
                    <a:pt x="0" y="22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3843000" y="3275640"/>
              <a:ext cx="1033560" cy="36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73920" y="288396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o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98640" y="4630320"/>
              <a:ext cx="93960" cy="7704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56" y="23"/>
                  </a:moveTo>
                  <a:lnTo>
                    <a:pt x="56" y="34"/>
                  </a:lnTo>
                  <a:lnTo>
                    <a:pt x="0" y="45"/>
                  </a:lnTo>
                  <a:lnTo>
                    <a:pt x="45" y="0"/>
                  </a:lnTo>
                  <a:lnTo>
                    <a:pt x="56" y="2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792960" y="4095360"/>
              <a:ext cx="1178280" cy="55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89400" y="238536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ahoo.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NS resource record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54400" y="2266920"/>
            <a:ext cx="205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11800" y="2266920"/>
            <a:ext cx="208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7560" y="1876320"/>
            <a:ext cx="122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cord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57840" y="1876320"/>
            <a:ext cx="90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45880" y="1876320"/>
            <a:ext cx="145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in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95160" y="1816200"/>
            <a:ext cx="140508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24000" y="18399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24000" y="1816200"/>
            <a:ext cx="18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49560" y="1816200"/>
            <a:ext cx="344016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14920" y="18399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14920" y="1816200"/>
            <a:ext cx="18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38680" y="1816200"/>
            <a:ext cx="344016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24000" y="1839960"/>
            <a:ext cx="2556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14920" y="1839960"/>
            <a:ext cx="2376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80840" y="2239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77640" y="2239920"/>
            <a:ext cx="183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mputer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90160" y="223992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5160" y="2203560"/>
            <a:ext cx="140508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2732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24000" y="2203560"/>
            <a:ext cx="18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49560" y="2203560"/>
            <a:ext cx="344016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14920" y="222732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14920" y="2203560"/>
            <a:ext cx="18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38680" y="2203560"/>
            <a:ext cx="344016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24000" y="2227320"/>
            <a:ext cx="2556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14920" y="2227320"/>
            <a:ext cx="2376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77600" y="253044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07880" y="2530440"/>
            <a:ext cx="266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authoritative 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84040" y="253044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ain name for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24000" y="2517840"/>
            <a:ext cx="255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14920" y="2517840"/>
            <a:ext cx="237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3120" y="2820960"/>
            <a:ext cx="82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00680" y="2820960"/>
            <a:ext cx="292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anonical name for an al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692320" y="2820960"/>
            <a:ext cx="209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ain name for al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24000" y="2809800"/>
            <a:ext cx="2556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14920" y="2809800"/>
            <a:ext cx="2376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8600" y="3111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92760" y="3111480"/>
            <a:ext cx="303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s the start of data for a 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95880" y="31114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220360" y="31114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11760" y="3111480"/>
            <a:ext cx="283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meters governing the 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24000" y="3100320"/>
            <a:ext cx="2556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14920" y="3100320"/>
            <a:ext cx="2376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6440" y="3402000"/>
            <a:ext cx="50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480" y="3402000"/>
            <a:ext cx="309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well-known service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07800" y="3402000"/>
            <a:ext cx="325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 of service names and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24000" y="3390840"/>
            <a:ext cx="2556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14920" y="3390840"/>
            <a:ext cx="2376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4360" y="369252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05000" y="3692520"/>
            <a:ext cx="2795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ain name pointer (re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32360" y="3935520"/>
            <a:ext cx="80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93760" y="3692520"/>
            <a:ext cx="129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ai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24000" y="3681360"/>
            <a:ext cx="255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14920" y="3681360"/>
            <a:ext cx="237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6720" y="4226040"/>
            <a:ext cx="69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34880" y="4226040"/>
            <a:ext cx="157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94120" y="4226040"/>
            <a:ext cx="325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hine architecture and ope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8960" y="4467240"/>
            <a:ext cx="63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4000" y="4214880"/>
            <a:ext cx="2556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14920" y="4214880"/>
            <a:ext cx="2376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6160" y="4757760"/>
            <a:ext cx="36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20840" y="4757760"/>
            <a:ext cx="13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l ex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01680" y="4757760"/>
            <a:ext cx="79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 of &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73880" y="4757760"/>
            <a:ext cx="1477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eference,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962840" y="47577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pai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24000" y="4746600"/>
            <a:ext cx="255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14920" y="4746600"/>
            <a:ext cx="237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1400" y="5073480"/>
            <a:ext cx="445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30200" y="5073480"/>
            <a:ext cx="100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xt 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12840" y="5073480"/>
            <a:ext cx="125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bitrary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95160" y="5353200"/>
            <a:ext cx="140508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124000" y="5062680"/>
            <a:ext cx="2556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24000" y="5376960"/>
            <a:ext cx="255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24000" y="5353200"/>
            <a:ext cx="18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49560" y="5353200"/>
            <a:ext cx="344016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14920" y="5062680"/>
            <a:ext cx="2376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14920" y="5376960"/>
            <a:ext cx="237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14920" y="5353200"/>
            <a:ext cx="18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38680" y="5353200"/>
            <a:ext cx="344016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9.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Service discovery in Jini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28680" y="2739960"/>
            <a:ext cx="1397160" cy="11271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28680" y="2739960"/>
            <a:ext cx="1422360" cy="1150920"/>
          </a:xfrm>
          <a:prstGeom prst="rect">
            <a:avLst/>
          </a:prstGeom>
          <a:noFill/>
          <a:ln w="363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376280" y="2935440"/>
            <a:ext cx="1127160" cy="760320"/>
          </a:xfrm>
          <a:prstGeom prst="ellipse">
            <a:avLst/>
          </a:prstGeom>
          <a:solidFill>
            <a:srgbClr val="ffffff"/>
          </a:solidFill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3880" y="1415880"/>
            <a:ext cx="1668240" cy="9558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73880" y="1415880"/>
            <a:ext cx="1692360" cy="981360"/>
          </a:xfrm>
          <a:prstGeom prst="rect">
            <a:avLst/>
          </a:prstGeom>
          <a:noFill/>
          <a:ln w="363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43880" y="1514520"/>
            <a:ext cx="1128600" cy="758880"/>
          </a:xfrm>
          <a:prstGeom prst="ellipse">
            <a:avLst/>
          </a:prstGeom>
          <a:solidFill>
            <a:srgbClr val="ffffff"/>
          </a:solidFill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08840" y="1697040"/>
            <a:ext cx="74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58880" y="1943280"/>
            <a:ext cx="64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28640" y="3290760"/>
            <a:ext cx="57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96320" y="3363840"/>
            <a:ext cx="64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59600" y="311940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527960" y="4282920"/>
            <a:ext cx="1373040" cy="112896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27960" y="4282920"/>
            <a:ext cx="1398600" cy="1152720"/>
          </a:xfrm>
          <a:prstGeom prst="rect">
            <a:avLst/>
          </a:prstGeom>
          <a:noFill/>
          <a:ln w="363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51800" y="4479840"/>
            <a:ext cx="1127160" cy="760320"/>
          </a:xfrm>
          <a:prstGeom prst="ellipse">
            <a:avLst/>
          </a:prstGeom>
          <a:solidFill>
            <a:srgbClr val="ffffff"/>
          </a:solidFill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907040" y="4835520"/>
            <a:ext cx="57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75080" y="4908600"/>
            <a:ext cx="64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938360" y="466236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21280" y="4675320"/>
            <a:ext cx="1666800" cy="9572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21280" y="4675320"/>
            <a:ext cx="1692000" cy="981000"/>
          </a:xfrm>
          <a:prstGeom prst="rect">
            <a:avLst/>
          </a:prstGeom>
          <a:noFill/>
          <a:ln w="363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90920" y="4773600"/>
            <a:ext cx="1127160" cy="760320"/>
          </a:xfrm>
          <a:prstGeom prst="ellipse">
            <a:avLst/>
          </a:prstGeom>
          <a:solidFill>
            <a:srgbClr val="ffffff"/>
          </a:solidFill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6520" y="4932360"/>
            <a:ext cx="74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96920" y="5202360"/>
            <a:ext cx="64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2920" y="277488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189280" y="150192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711560" y="4014720"/>
            <a:ext cx="1321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dmin, 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39560" y="544680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31120" y="2960640"/>
            <a:ext cx="465120" cy="3920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31120" y="2960640"/>
            <a:ext cx="490680" cy="415800"/>
          </a:xfrm>
          <a:prstGeom prst="rect">
            <a:avLst/>
          </a:prstGeom>
          <a:noFill/>
          <a:ln w="363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04200" y="2984400"/>
            <a:ext cx="342720" cy="343080"/>
          </a:xfrm>
          <a:prstGeom prst="ellipse">
            <a:avLst/>
          </a:prstGeom>
          <a:solidFill>
            <a:srgbClr val="ffffff"/>
          </a:solidFill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027280" y="302112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311640" y="1906560"/>
            <a:ext cx="490320" cy="3920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311640" y="1906560"/>
            <a:ext cx="515880" cy="415800"/>
          </a:xfrm>
          <a:prstGeom prst="rect">
            <a:avLst/>
          </a:prstGeom>
          <a:noFill/>
          <a:ln w="363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09920" y="1930320"/>
            <a:ext cx="318960" cy="343080"/>
          </a:xfrm>
          <a:prstGeom prst="ellipse">
            <a:avLst/>
          </a:prstGeom>
          <a:solidFill>
            <a:srgbClr val="ffffff"/>
          </a:solidFill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23400" y="19432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003640" y="4186080"/>
            <a:ext cx="122400" cy="563760"/>
          </a:xfrm>
          <a:custGeom>
            <a:avLst/>
            <a:gdLst/>
            <a:ahLst/>
            <a:rect l="l" t="t" r="r" b="b"/>
            <a:pathLst>
              <a:path w="77" h="355">
                <a:moveTo>
                  <a:pt x="77" y="0"/>
                </a:moveTo>
                <a:lnTo>
                  <a:pt x="62" y="139"/>
                </a:lnTo>
                <a:lnTo>
                  <a:pt x="31" y="247"/>
                </a:lnTo>
                <a:lnTo>
                  <a:pt x="15" y="324"/>
                </a:lnTo>
                <a:lnTo>
                  <a:pt x="0" y="355"/>
                </a:lnTo>
                <a:lnTo>
                  <a:pt x="0" y="339"/>
                </a:lnTo>
              </a:path>
            </a:pathLst>
          </a:custGeom>
          <a:noFill/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68320" y="4651200"/>
            <a:ext cx="1667160" cy="95580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68320" y="4651200"/>
            <a:ext cx="1690920" cy="981360"/>
          </a:xfrm>
          <a:prstGeom prst="rect">
            <a:avLst/>
          </a:prstGeom>
          <a:noFill/>
          <a:ln w="36360">
            <a:solidFill>
              <a:srgbClr val="ffd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38320" y="4749840"/>
            <a:ext cx="1127160" cy="758880"/>
          </a:xfrm>
          <a:prstGeom prst="ellipse">
            <a:avLst/>
          </a:prstGeom>
          <a:solidFill>
            <a:srgbClr val="ffffff"/>
          </a:solidFill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187000" y="4932360"/>
            <a:ext cx="95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57480" y="5178600"/>
            <a:ext cx="97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fo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03000" y="1967040"/>
            <a:ext cx="1029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‘finance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2200" y="2187720"/>
            <a:ext cx="163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up servi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6302520" y="2151000"/>
            <a:ext cx="612720" cy="9320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78240" y="3352680"/>
            <a:ext cx="809640" cy="12240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043080" y="4331880"/>
            <a:ext cx="514440" cy="5396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6426360" y="3205080"/>
            <a:ext cx="1077840" cy="12240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28880" y="2101680"/>
            <a:ext cx="1594080" cy="68760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16160" y="2665440"/>
            <a:ext cx="3824280" cy="1887480"/>
          </a:xfrm>
          <a:custGeom>
            <a:avLst/>
            <a:gdLst/>
            <a:ahLst/>
            <a:rect l="l" t="t" r="r" b="b"/>
            <a:pathLst>
              <a:path w="2409" h="1189">
                <a:moveTo>
                  <a:pt x="77" y="278"/>
                </a:moveTo>
                <a:lnTo>
                  <a:pt x="108" y="217"/>
                </a:lnTo>
                <a:lnTo>
                  <a:pt x="247" y="124"/>
                </a:lnTo>
                <a:lnTo>
                  <a:pt x="386" y="93"/>
                </a:lnTo>
                <a:lnTo>
                  <a:pt x="479" y="93"/>
                </a:lnTo>
                <a:lnTo>
                  <a:pt x="571" y="78"/>
                </a:lnTo>
                <a:lnTo>
                  <a:pt x="710" y="93"/>
                </a:lnTo>
                <a:lnTo>
                  <a:pt x="896" y="93"/>
                </a:lnTo>
                <a:lnTo>
                  <a:pt x="1081" y="108"/>
                </a:lnTo>
                <a:lnTo>
                  <a:pt x="1266" y="124"/>
                </a:lnTo>
                <a:lnTo>
                  <a:pt x="1359" y="78"/>
                </a:lnTo>
                <a:lnTo>
                  <a:pt x="1451" y="31"/>
                </a:lnTo>
                <a:lnTo>
                  <a:pt x="1590" y="16"/>
                </a:lnTo>
                <a:lnTo>
                  <a:pt x="1729" y="0"/>
                </a:lnTo>
                <a:lnTo>
                  <a:pt x="1838" y="16"/>
                </a:lnTo>
                <a:lnTo>
                  <a:pt x="1930" y="47"/>
                </a:lnTo>
                <a:lnTo>
                  <a:pt x="1992" y="78"/>
                </a:lnTo>
                <a:lnTo>
                  <a:pt x="2100" y="108"/>
                </a:lnTo>
                <a:lnTo>
                  <a:pt x="2224" y="217"/>
                </a:lnTo>
                <a:lnTo>
                  <a:pt x="2316" y="294"/>
                </a:lnTo>
                <a:lnTo>
                  <a:pt x="2363" y="386"/>
                </a:lnTo>
                <a:lnTo>
                  <a:pt x="2393" y="587"/>
                </a:lnTo>
                <a:lnTo>
                  <a:pt x="2409" y="726"/>
                </a:lnTo>
                <a:lnTo>
                  <a:pt x="2378" y="850"/>
                </a:lnTo>
                <a:lnTo>
                  <a:pt x="2316" y="1035"/>
                </a:lnTo>
                <a:lnTo>
                  <a:pt x="2177" y="1143"/>
                </a:lnTo>
                <a:lnTo>
                  <a:pt x="2023" y="1189"/>
                </a:lnTo>
                <a:lnTo>
                  <a:pt x="1853" y="1158"/>
                </a:lnTo>
                <a:lnTo>
                  <a:pt x="1668" y="1143"/>
                </a:lnTo>
                <a:lnTo>
                  <a:pt x="1513" y="1112"/>
                </a:lnTo>
                <a:lnTo>
                  <a:pt x="1359" y="1097"/>
                </a:lnTo>
                <a:lnTo>
                  <a:pt x="1204" y="1097"/>
                </a:lnTo>
                <a:lnTo>
                  <a:pt x="1050" y="1097"/>
                </a:lnTo>
                <a:lnTo>
                  <a:pt x="926" y="1112"/>
                </a:lnTo>
                <a:lnTo>
                  <a:pt x="803" y="1127"/>
                </a:lnTo>
                <a:lnTo>
                  <a:pt x="695" y="1143"/>
                </a:lnTo>
                <a:lnTo>
                  <a:pt x="587" y="1158"/>
                </a:lnTo>
                <a:lnTo>
                  <a:pt x="463" y="1158"/>
                </a:lnTo>
                <a:lnTo>
                  <a:pt x="371" y="1143"/>
                </a:lnTo>
                <a:lnTo>
                  <a:pt x="278" y="1127"/>
                </a:lnTo>
                <a:lnTo>
                  <a:pt x="201" y="1081"/>
                </a:lnTo>
                <a:lnTo>
                  <a:pt x="185" y="1066"/>
                </a:lnTo>
                <a:lnTo>
                  <a:pt x="154" y="1035"/>
                </a:lnTo>
                <a:lnTo>
                  <a:pt x="93" y="927"/>
                </a:lnTo>
                <a:lnTo>
                  <a:pt x="31" y="803"/>
                </a:lnTo>
                <a:lnTo>
                  <a:pt x="15" y="680"/>
                </a:lnTo>
                <a:lnTo>
                  <a:pt x="0" y="587"/>
                </a:lnTo>
                <a:lnTo>
                  <a:pt x="15" y="464"/>
                </a:lnTo>
                <a:lnTo>
                  <a:pt x="46" y="356"/>
                </a:lnTo>
                <a:lnTo>
                  <a:pt x="77" y="278"/>
                </a:lnTo>
                <a:lnTo>
                  <a:pt x="77" y="278"/>
                </a:lnTo>
                <a:close/>
              </a:path>
            </a:pathLst>
          </a:custGeom>
          <a:solidFill>
            <a:srgbClr val="ffdc99"/>
          </a:solidFill>
          <a:ln w="3636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35680" y="2836800"/>
            <a:ext cx="98280" cy="98640"/>
          </a:xfrm>
          <a:custGeom>
            <a:avLst/>
            <a:gdLst/>
            <a:ahLst/>
            <a:rect l="l" t="t" r="r" b="b"/>
            <a:pathLst>
              <a:path w="62" h="62">
                <a:moveTo>
                  <a:pt x="0" y="31"/>
                </a:moveTo>
                <a:lnTo>
                  <a:pt x="15" y="0"/>
                </a:lnTo>
                <a:lnTo>
                  <a:pt x="62" y="47"/>
                </a:lnTo>
                <a:lnTo>
                  <a:pt x="0" y="62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46720" y="2763720"/>
            <a:ext cx="588960" cy="12240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569280" y="3587760"/>
            <a:ext cx="1510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ere I am: 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334200" y="4730760"/>
            <a:ext cx="98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84240" y="45403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248440" y="2960640"/>
            <a:ext cx="98280" cy="96840"/>
          </a:xfrm>
          <a:custGeom>
            <a:avLst/>
            <a:gdLst/>
            <a:ahLst/>
            <a:rect l="l" t="t" r="r" b="b"/>
            <a:pathLst>
              <a:path w="62" h="61">
                <a:moveTo>
                  <a:pt x="31" y="0"/>
                </a:moveTo>
                <a:lnTo>
                  <a:pt x="62" y="0"/>
                </a:lnTo>
                <a:lnTo>
                  <a:pt x="31" y="61"/>
                </a:lnTo>
                <a:lnTo>
                  <a:pt x="0" y="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297040" y="2763720"/>
            <a:ext cx="25560" cy="17172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35080" y="498636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282120" y="3780000"/>
            <a:ext cx="130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Use pri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3976560"/>
            <a:ext cx="871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3280" y="3205080"/>
            <a:ext cx="122400" cy="98640"/>
          </a:xfrm>
          <a:custGeom>
            <a:avLst/>
            <a:gdLst/>
            <a:ahLst/>
            <a:rect l="l" t="t" r="r" b="b"/>
            <a:pathLst>
              <a:path w="77" h="62">
                <a:moveTo>
                  <a:pt x="30" y="31"/>
                </a:moveTo>
                <a:lnTo>
                  <a:pt x="46" y="0"/>
                </a:lnTo>
                <a:lnTo>
                  <a:pt x="77" y="62"/>
                </a:lnTo>
                <a:lnTo>
                  <a:pt x="0" y="62"/>
                </a:lnTo>
                <a:lnTo>
                  <a:pt x="30" y="31"/>
                </a:lnTo>
                <a:close/>
              </a:path>
            </a:pathLst>
          </a:custGeom>
          <a:solidFill>
            <a:srgbClr val="000000"/>
          </a:solidFill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22960" y="2789280"/>
            <a:ext cx="514440" cy="46512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05120" y="2200320"/>
            <a:ext cx="96840" cy="73080"/>
          </a:xfrm>
          <a:custGeom>
            <a:avLst/>
            <a:gdLst/>
            <a:ahLst/>
            <a:rect l="l" t="t" r="r" b="b"/>
            <a:pathLst>
              <a:path w="61" h="46">
                <a:moveTo>
                  <a:pt x="46" y="31"/>
                </a:moveTo>
                <a:lnTo>
                  <a:pt x="30" y="46"/>
                </a:lnTo>
                <a:lnTo>
                  <a:pt x="0" y="0"/>
                </a:lnTo>
                <a:lnTo>
                  <a:pt x="61" y="0"/>
                </a:lnTo>
                <a:lnTo>
                  <a:pt x="46" y="31"/>
                </a:lnTo>
                <a:close/>
              </a:path>
            </a:pathLst>
          </a:custGeom>
          <a:solidFill>
            <a:srgbClr val="000000"/>
          </a:solidFill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3777840" y="2249280"/>
            <a:ext cx="3970440" cy="23288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27960" y="4675320"/>
            <a:ext cx="123840" cy="98280"/>
          </a:xfrm>
          <a:custGeom>
            <a:avLst/>
            <a:gdLst/>
            <a:ahLst/>
            <a:rect l="l" t="t" r="r" b="b"/>
            <a:pathLst>
              <a:path w="78" h="62">
                <a:moveTo>
                  <a:pt x="16" y="31"/>
                </a:moveTo>
                <a:lnTo>
                  <a:pt x="47" y="0"/>
                </a:lnTo>
                <a:lnTo>
                  <a:pt x="78" y="62"/>
                </a:lnTo>
                <a:lnTo>
                  <a:pt x="0" y="62"/>
                </a:lnTo>
                <a:lnTo>
                  <a:pt x="16" y="31"/>
                </a:lnTo>
                <a:close/>
              </a:path>
            </a:pathLst>
          </a:custGeom>
          <a:solidFill>
            <a:srgbClr val="000000"/>
          </a:solidFill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56160" y="2249640"/>
            <a:ext cx="3897000" cy="24746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003640" y="4259160"/>
            <a:ext cx="98640" cy="98640"/>
          </a:xfrm>
          <a:custGeom>
            <a:avLst/>
            <a:gdLst/>
            <a:ahLst/>
            <a:rect l="l" t="t" r="r" b="b"/>
            <a:pathLst>
              <a:path w="62" h="62">
                <a:moveTo>
                  <a:pt x="31" y="15"/>
                </a:moveTo>
                <a:lnTo>
                  <a:pt x="62" y="0"/>
                </a:lnTo>
                <a:lnTo>
                  <a:pt x="62" y="62"/>
                </a:lnTo>
                <a:lnTo>
                  <a:pt x="0" y="46"/>
                </a:lnTo>
                <a:lnTo>
                  <a:pt x="31" y="15"/>
                </a:lnTo>
                <a:close/>
              </a:path>
            </a:pathLst>
          </a:custGeom>
          <a:solidFill>
            <a:srgbClr val="000000"/>
          </a:solidFill>
          <a:ln w="36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57520" y="2249640"/>
            <a:ext cx="1495440" cy="203328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74320" y="3535200"/>
            <a:ext cx="74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NS directory tree and value tree for user Peter.Smith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821320" y="1319040"/>
            <a:ext cx="4494600" cy="4559400"/>
            <a:chOff x="2821320" y="1319040"/>
            <a:chExt cx="4494600" cy="4559400"/>
          </a:xfrm>
        </p:grpSpPr>
        <p:sp>
          <p:nvSpPr>
            <p:cNvPr id="426" name=""/>
            <p:cNvSpPr/>
            <p:nvPr/>
          </p:nvSpPr>
          <p:spPr>
            <a:xfrm>
              <a:off x="3043080" y="3805200"/>
              <a:ext cx="1036800" cy="362160"/>
            </a:xfrm>
            <a:prstGeom prst="roundRect">
              <a:avLst>
                <a:gd name="adj" fmla="val 48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43080" y="3805200"/>
              <a:ext cx="1060560" cy="385920"/>
            </a:xfrm>
            <a:prstGeom prst="roundRect">
              <a:avLst>
                <a:gd name="adj" fmla="val 45269"/>
              </a:avLst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935520" y="3805200"/>
              <a:ext cx="1440" cy="36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93960" y="3805200"/>
              <a:ext cx="1800" cy="36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29000" y="3805200"/>
              <a:ext cx="1440" cy="36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11560" y="3805200"/>
              <a:ext cx="1440" cy="36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65600" y="3081240"/>
              <a:ext cx="1038240" cy="338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65600" y="3081240"/>
              <a:ext cx="1062000" cy="362160"/>
            </a:xfrm>
            <a:prstGeom prst="roundRect">
              <a:avLst>
                <a:gd name="adj" fmla="val 48245"/>
              </a:avLst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57680" y="3081240"/>
              <a:ext cx="1800" cy="3384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4392720" y="3081240"/>
              <a:ext cx="25200" cy="3384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51160" y="3081240"/>
              <a:ext cx="1800" cy="3384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11760" y="3081240"/>
              <a:ext cx="1440" cy="3384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13520" y="1587600"/>
              <a:ext cx="1036440" cy="360360"/>
            </a:xfrm>
            <a:prstGeom prst="roundRect">
              <a:avLst>
                <a:gd name="adj" fmla="val 484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13520" y="1587600"/>
              <a:ext cx="1060200" cy="385560"/>
            </a:xfrm>
            <a:prstGeom prst="roundRect">
              <a:avLst>
                <a:gd name="adj" fmla="val 45269"/>
              </a:avLst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05600" y="1611360"/>
              <a:ext cx="1440" cy="312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864400" y="1611360"/>
              <a:ext cx="144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99080" y="1611360"/>
              <a:ext cx="180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57880" y="1611360"/>
              <a:ext cx="144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65800" y="2359080"/>
              <a:ext cx="1036440" cy="336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65800" y="2359080"/>
              <a:ext cx="1060200" cy="360360"/>
            </a:xfrm>
            <a:prstGeom prst="roundRect">
              <a:avLst>
                <a:gd name="adj" fmla="val 48458"/>
              </a:avLst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46080" y="20574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11920" y="2359080"/>
              <a:ext cx="1036440" cy="336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11920" y="2359080"/>
              <a:ext cx="1060560" cy="360360"/>
            </a:xfrm>
            <a:prstGeom prst="roundRect">
              <a:avLst>
                <a:gd name="adj" fmla="val 48458"/>
              </a:avLst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04000" y="2382840"/>
              <a:ext cx="144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562800" y="2382840"/>
              <a:ext cx="144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97480" y="2382840"/>
              <a:ext cx="180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056280" y="2382840"/>
              <a:ext cx="180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0360" y="205740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77480" y="277956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43600" y="2189160"/>
              <a:ext cx="145800" cy="120600"/>
            </a:xfrm>
            <a:custGeom>
              <a:avLst/>
              <a:gdLst/>
              <a:ahLst/>
              <a:rect l="l" t="t" r="r" b="b"/>
              <a:pathLst>
                <a:path w="92" h="76">
                  <a:moveTo>
                    <a:pt x="76" y="31"/>
                  </a:moveTo>
                  <a:lnTo>
                    <a:pt x="92" y="46"/>
                  </a:lnTo>
                  <a:lnTo>
                    <a:pt x="0" y="76"/>
                  </a:lnTo>
                  <a:lnTo>
                    <a:pt x="61" y="0"/>
                  </a:lnTo>
                  <a:lnTo>
                    <a:pt x="76" y="31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5189400" y="1802880"/>
              <a:ext cx="554040" cy="411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97480" y="2165400"/>
              <a:ext cx="120960" cy="144360"/>
            </a:xfrm>
            <a:custGeom>
              <a:avLst/>
              <a:gdLst/>
              <a:ahLst/>
              <a:rect l="l" t="t" r="r" b="b"/>
              <a:pathLst>
                <a:path w="76" h="91">
                  <a:moveTo>
                    <a:pt x="15" y="15"/>
                  </a:moveTo>
                  <a:lnTo>
                    <a:pt x="46" y="0"/>
                  </a:lnTo>
                  <a:lnTo>
                    <a:pt x="76" y="91"/>
                  </a:lnTo>
                  <a:lnTo>
                    <a:pt x="0" y="31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5984640" y="1803240"/>
              <a:ext cx="336600" cy="385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4240" y="3551400"/>
              <a:ext cx="51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M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21240" y="3637080"/>
              <a:ext cx="14436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76" y="30"/>
                  </a:moveTo>
                  <a:lnTo>
                    <a:pt x="91" y="45"/>
                  </a:lnTo>
                  <a:lnTo>
                    <a:pt x="0" y="91"/>
                  </a:lnTo>
                  <a:lnTo>
                    <a:pt x="61" y="0"/>
                  </a:lnTo>
                  <a:lnTo>
                    <a:pt x="76" y="3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741840" y="3274920"/>
              <a:ext cx="555480" cy="4096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821320" y="3560760"/>
              <a:ext cx="65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: 3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357880" y="2382840"/>
              <a:ext cx="144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16680" y="2382840"/>
              <a:ext cx="144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4827600" y="2382840"/>
              <a:ext cx="2376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10160" y="2382840"/>
              <a:ext cx="1440" cy="336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17920" y="4383000"/>
              <a:ext cx="265320" cy="2415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140440" y="4865760"/>
              <a:ext cx="264960" cy="28872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71960" y="4792680"/>
              <a:ext cx="144720" cy="120600"/>
            </a:xfrm>
            <a:custGeom>
              <a:avLst/>
              <a:gdLst/>
              <a:ahLst/>
              <a:rect l="l" t="t" r="r" b="b"/>
              <a:pathLst>
                <a:path w="91" h="76">
                  <a:moveTo>
                    <a:pt x="15" y="16"/>
                  </a:moveTo>
                  <a:lnTo>
                    <a:pt x="30" y="0"/>
                  </a:lnTo>
                  <a:lnTo>
                    <a:pt x="91" y="76"/>
                  </a:lnTo>
                  <a:lnTo>
                    <a:pt x="0" y="4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 flipV="1">
              <a:off x="4537080" y="4503600"/>
              <a:ext cx="458640" cy="314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48000" y="4262400"/>
              <a:ext cx="144720" cy="120600"/>
            </a:xfrm>
            <a:custGeom>
              <a:avLst/>
              <a:gdLst/>
              <a:ahLst/>
              <a:rect l="l" t="t" r="r" b="b"/>
              <a:pathLst>
                <a:path w="91" h="76">
                  <a:moveTo>
                    <a:pt x="15" y="31"/>
                  </a:moveTo>
                  <a:lnTo>
                    <a:pt x="31" y="0"/>
                  </a:lnTo>
                  <a:lnTo>
                    <a:pt x="91" y="76"/>
                  </a:lnTo>
                  <a:lnTo>
                    <a:pt x="0" y="46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3838320" y="3973320"/>
              <a:ext cx="409320" cy="314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35760" y="4029120"/>
              <a:ext cx="106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ter.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00320" y="4491000"/>
              <a:ext cx="86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ss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3959280" y="4503600"/>
              <a:ext cx="530280" cy="385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93960" y="4865760"/>
              <a:ext cx="265320" cy="28872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11200" y="454032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box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272920" y="131904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: 599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67720" y="1319040"/>
              <a:ext cx="41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E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61440" y="2090880"/>
              <a:ext cx="65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: 57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53400" y="2090880"/>
              <a:ext cx="65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: 54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15040" y="2813040"/>
              <a:ext cx="65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: 43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11560" y="5396040"/>
              <a:ext cx="144360" cy="120600"/>
            </a:xfrm>
            <a:custGeom>
              <a:avLst/>
              <a:gdLst/>
              <a:ahLst/>
              <a:rect l="l" t="t" r="r" b="b"/>
              <a:pathLst>
                <a:path w="91" h="76">
                  <a:moveTo>
                    <a:pt x="76" y="15"/>
                  </a:moveTo>
                  <a:lnTo>
                    <a:pt x="91" y="30"/>
                  </a:lnTo>
                  <a:lnTo>
                    <a:pt x="0" y="76"/>
                  </a:lnTo>
                  <a:lnTo>
                    <a:pt x="61" y="0"/>
                  </a:lnTo>
                  <a:lnTo>
                    <a:pt x="76" y="15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332160" y="5010120"/>
              <a:ext cx="482760" cy="4096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44840" y="5372280"/>
              <a:ext cx="14472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15" y="30"/>
                  </a:moveTo>
                  <a:lnTo>
                    <a:pt x="30" y="0"/>
                  </a:lnTo>
                  <a:lnTo>
                    <a:pt x="91" y="91"/>
                  </a:lnTo>
                  <a:lnTo>
                    <a:pt x="0" y="45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3911760" y="5010120"/>
              <a:ext cx="457200" cy="385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90800" y="5407200"/>
              <a:ext cx="95400" cy="144360"/>
            </a:xfrm>
            <a:custGeom>
              <a:avLst/>
              <a:gdLst/>
              <a:ahLst/>
              <a:rect l="l" t="t" r="r" b="b"/>
              <a:pathLst>
                <a:path w="60" h="91">
                  <a:moveTo>
                    <a:pt x="30" y="0"/>
                  </a:moveTo>
                  <a:lnTo>
                    <a:pt x="60" y="0"/>
                  </a:lnTo>
                  <a:lnTo>
                    <a:pt x="30" y="91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38680" y="5033880"/>
              <a:ext cx="1440" cy="3142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40040" y="5156280"/>
              <a:ext cx="52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ph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71480" y="5156280"/>
              <a:ext cx="72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am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46440" y="5178600"/>
              <a:ext cx="409680" cy="14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87480" y="515628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994120" y="5589720"/>
              <a:ext cx="241200" cy="28872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18080" y="5589720"/>
              <a:ext cx="264960" cy="28872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17920" y="5589720"/>
              <a:ext cx="265320" cy="28872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44840" y="2913120"/>
              <a:ext cx="144720" cy="120600"/>
            </a:xfrm>
            <a:custGeom>
              <a:avLst/>
              <a:gdLst/>
              <a:ahLst/>
              <a:rect l="l" t="t" r="r" b="b"/>
              <a:pathLst>
                <a:path w="91" h="76">
                  <a:moveTo>
                    <a:pt x="76" y="30"/>
                  </a:moveTo>
                  <a:lnTo>
                    <a:pt x="91" y="45"/>
                  </a:lnTo>
                  <a:lnTo>
                    <a:pt x="0" y="76"/>
                  </a:lnTo>
                  <a:lnTo>
                    <a:pt x="61" y="0"/>
                  </a:lnTo>
                  <a:lnTo>
                    <a:pt x="76" y="30"/>
                  </a:lnTo>
                  <a:close/>
                </a:path>
              </a:pathLst>
            </a:custGeom>
            <a:solidFill>
              <a:srgbClr val="000000"/>
            </a:solidFill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4465800" y="2527200"/>
              <a:ext cx="506160" cy="4096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888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9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erging trees under a new roo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905200" y="3602160"/>
            <a:ext cx="1152360" cy="401400"/>
          </a:xfrm>
          <a:prstGeom prst="roundRect">
            <a:avLst>
              <a:gd name="adj" fmla="val 4822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05200" y="3602160"/>
            <a:ext cx="1177920" cy="428400"/>
          </a:xfrm>
          <a:prstGeom prst="roundRect">
            <a:avLst>
              <a:gd name="adj" fmla="val 45185"/>
            </a:avLst>
          </a:prstGeom>
          <a:noFill/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53440" y="2811600"/>
            <a:ext cx="30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75040" y="4459320"/>
            <a:ext cx="1152360" cy="37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75040" y="4459320"/>
            <a:ext cx="1177920" cy="401760"/>
          </a:xfrm>
          <a:prstGeom prst="roundRect">
            <a:avLst>
              <a:gd name="adj" fmla="val 48222"/>
            </a:avLst>
          </a:prstGeom>
          <a:noFill/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128040" y="4124160"/>
            <a:ext cx="30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81360" y="4459320"/>
            <a:ext cx="1152720" cy="37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81360" y="4459320"/>
            <a:ext cx="1179720" cy="401760"/>
          </a:xfrm>
          <a:prstGeom prst="roundRect">
            <a:avLst>
              <a:gd name="adj" fmla="val 48222"/>
            </a:avLst>
          </a:prstGeom>
          <a:noFill/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48320" y="4124160"/>
            <a:ext cx="29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673360" y="4289400"/>
            <a:ext cx="160200" cy="133200"/>
          </a:xfrm>
          <a:custGeom>
            <a:avLst/>
            <a:gdLst/>
            <a:ahLst/>
            <a:rect l="l" t="t" r="r" b="b"/>
            <a:pathLst>
              <a:path w="101" h="84">
                <a:moveTo>
                  <a:pt x="85" y="34"/>
                </a:moveTo>
                <a:lnTo>
                  <a:pt x="101" y="51"/>
                </a:lnTo>
                <a:lnTo>
                  <a:pt x="0" y="84"/>
                </a:lnTo>
                <a:lnTo>
                  <a:pt x="68" y="0"/>
                </a:lnTo>
                <a:lnTo>
                  <a:pt x="85" y="34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2825640" y="3816000"/>
            <a:ext cx="668520" cy="482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100400" y="4262400"/>
            <a:ext cx="135000" cy="160200"/>
          </a:xfrm>
          <a:custGeom>
            <a:avLst/>
            <a:gdLst/>
            <a:ahLst/>
            <a:rect l="l" t="t" r="r" b="b"/>
            <a:pathLst>
              <a:path w="85" h="101">
                <a:moveTo>
                  <a:pt x="17" y="17"/>
                </a:moveTo>
                <a:lnTo>
                  <a:pt x="51" y="0"/>
                </a:lnTo>
                <a:lnTo>
                  <a:pt x="85" y="101"/>
                </a:lnTo>
                <a:lnTo>
                  <a:pt x="0" y="34"/>
                </a:lnTo>
                <a:lnTo>
                  <a:pt x="17" y="17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762360" y="3816360"/>
            <a:ext cx="347760" cy="455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59080" y="4299120"/>
            <a:ext cx="187200" cy="106200"/>
          </a:xfrm>
          <a:custGeom>
            <a:avLst/>
            <a:gdLst/>
            <a:ahLst/>
            <a:rect l="l" t="t" r="r" b="b"/>
            <a:pathLst>
              <a:path w="118" h="67">
                <a:moveTo>
                  <a:pt x="101" y="34"/>
                </a:moveTo>
                <a:lnTo>
                  <a:pt x="118" y="67"/>
                </a:lnTo>
                <a:lnTo>
                  <a:pt x="0" y="67"/>
                </a:lnTo>
                <a:lnTo>
                  <a:pt x="101" y="0"/>
                </a:lnTo>
                <a:lnTo>
                  <a:pt x="101" y="34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1646280" y="3816360"/>
            <a:ext cx="1581120" cy="53640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06960" y="3375000"/>
            <a:ext cx="69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: 59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515480" y="4205160"/>
            <a:ext cx="69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: 57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727280" y="4218120"/>
            <a:ext cx="83016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38880" y="4205160"/>
            <a:ext cx="69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: 54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137360" y="3602160"/>
            <a:ext cx="1150920" cy="401400"/>
          </a:xfrm>
          <a:prstGeom prst="roundRect">
            <a:avLst>
              <a:gd name="adj" fmla="val 4822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137360" y="3602160"/>
            <a:ext cx="1177920" cy="428400"/>
          </a:xfrm>
          <a:prstGeom prst="roundRect">
            <a:avLst>
              <a:gd name="adj" fmla="val 45185"/>
            </a:avLst>
          </a:prstGeom>
          <a:noFill/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721200" y="2793960"/>
            <a:ext cx="1818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985000" y="4459320"/>
            <a:ext cx="1179360" cy="37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85000" y="4459320"/>
            <a:ext cx="1204920" cy="401760"/>
          </a:xfrm>
          <a:prstGeom prst="roundRect">
            <a:avLst>
              <a:gd name="adj" fmla="val 48222"/>
            </a:avLst>
          </a:prstGeom>
          <a:noFill/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77680" y="4043520"/>
            <a:ext cx="30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618320" y="4459320"/>
            <a:ext cx="1152720" cy="37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618320" y="4459320"/>
            <a:ext cx="1179720" cy="401760"/>
          </a:xfrm>
          <a:prstGeom prst="roundRect">
            <a:avLst>
              <a:gd name="adj" fmla="val 48222"/>
            </a:avLst>
          </a:prstGeom>
          <a:noFill/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10320" y="4289400"/>
            <a:ext cx="187200" cy="133200"/>
          </a:xfrm>
          <a:custGeom>
            <a:avLst/>
            <a:gdLst/>
            <a:ahLst/>
            <a:rect l="l" t="t" r="r" b="b"/>
            <a:pathLst>
              <a:path w="118" h="84">
                <a:moveTo>
                  <a:pt x="84" y="34"/>
                </a:moveTo>
                <a:lnTo>
                  <a:pt x="118" y="51"/>
                </a:lnTo>
                <a:lnTo>
                  <a:pt x="0" y="84"/>
                </a:lnTo>
                <a:lnTo>
                  <a:pt x="68" y="0"/>
                </a:lnTo>
                <a:lnTo>
                  <a:pt x="84" y="34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6788160" y="3816000"/>
            <a:ext cx="615960" cy="482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037360" y="4280040"/>
            <a:ext cx="135000" cy="160200"/>
          </a:xfrm>
          <a:custGeom>
            <a:avLst/>
            <a:gdLst/>
            <a:ahLst/>
            <a:rect l="l" t="t" r="r" b="b"/>
            <a:pathLst>
              <a:path w="85" h="101">
                <a:moveTo>
                  <a:pt x="17" y="17"/>
                </a:moveTo>
                <a:lnTo>
                  <a:pt x="51" y="0"/>
                </a:lnTo>
                <a:lnTo>
                  <a:pt x="85" y="101"/>
                </a:lnTo>
                <a:lnTo>
                  <a:pt x="0" y="34"/>
                </a:lnTo>
                <a:lnTo>
                  <a:pt x="17" y="17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7671960" y="3816360"/>
            <a:ext cx="374760" cy="455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25080" y="3375000"/>
            <a:ext cx="69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: 64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279280" y="4205160"/>
            <a:ext cx="69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: 45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67920" y="4205160"/>
            <a:ext cx="69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: 73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13280" y="2263680"/>
            <a:ext cx="1152720" cy="37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13280" y="2263680"/>
            <a:ext cx="1179720" cy="401760"/>
          </a:xfrm>
          <a:prstGeom prst="roundRect">
            <a:avLst>
              <a:gd name="adj" fmla="val 48222"/>
            </a:avLst>
          </a:prstGeom>
          <a:noFill/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05440" y="2263680"/>
            <a:ext cx="1800" cy="374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637240" y="2263680"/>
            <a:ext cx="1440" cy="374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42040" y="2263680"/>
            <a:ext cx="1440" cy="374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75280" y="2263680"/>
            <a:ext cx="1440" cy="374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458120" y="3441600"/>
            <a:ext cx="187200" cy="133560"/>
          </a:xfrm>
          <a:custGeom>
            <a:avLst/>
            <a:gdLst/>
            <a:ahLst/>
            <a:rect l="l" t="t" r="r" b="b"/>
            <a:pathLst>
              <a:path w="118" h="84">
                <a:moveTo>
                  <a:pt x="17" y="34"/>
                </a:moveTo>
                <a:lnTo>
                  <a:pt x="34" y="0"/>
                </a:lnTo>
                <a:lnTo>
                  <a:pt x="118" y="84"/>
                </a:lnTo>
                <a:lnTo>
                  <a:pt x="0" y="51"/>
                </a:lnTo>
                <a:lnTo>
                  <a:pt x="17" y="34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70440" y="2451240"/>
            <a:ext cx="1714680" cy="10173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48160" y="3441600"/>
            <a:ext cx="160200" cy="133560"/>
          </a:xfrm>
          <a:custGeom>
            <a:avLst/>
            <a:gdLst/>
            <a:ahLst/>
            <a:rect l="l" t="t" r="r" b="b"/>
            <a:pathLst>
              <a:path w="101" h="84">
                <a:moveTo>
                  <a:pt x="84" y="17"/>
                </a:moveTo>
                <a:lnTo>
                  <a:pt x="101" y="51"/>
                </a:lnTo>
                <a:lnTo>
                  <a:pt x="0" y="84"/>
                </a:lnTo>
                <a:lnTo>
                  <a:pt x="68" y="0"/>
                </a:lnTo>
                <a:lnTo>
                  <a:pt x="84" y="17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3681000" y="2451240"/>
            <a:ext cx="1554120" cy="10173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82560" y="2505240"/>
            <a:ext cx="3400560" cy="5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2560" y="2505240"/>
            <a:ext cx="3427560" cy="615960"/>
          </a:xfrm>
          <a:prstGeom prst="rect">
            <a:avLst/>
          </a:prstGeom>
          <a:noFill/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75160" y="2597040"/>
            <a:ext cx="157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#599 = #633/E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72640" y="2838600"/>
            <a:ext cx="3087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#642 = #633/NORTH AMERIC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45120" y="2638440"/>
            <a:ext cx="160200" cy="81000"/>
          </a:xfrm>
          <a:custGeom>
            <a:avLst/>
            <a:gdLst/>
            <a:ahLst/>
            <a:rect l="l" t="t" r="r" b="b"/>
            <a:pathLst>
              <a:path w="101" h="51">
                <a:moveTo>
                  <a:pt x="101" y="17"/>
                </a:moveTo>
                <a:lnTo>
                  <a:pt x="101" y="51"/>
                </a:lnTo>
                <a:lnTo>
                  <a:pt x="0" y="51"/>
                </a:lnTo>
                <a:lnTo>
                  <a:pt x="84" y="0"/>
                </a:lnTo>
                <a:lnTo>
                  <a:pt x="101" y="17"/>
                </a:lnTo>
                <a:close/>
              </a:path>
            </a:pathLst>
          </a:custGeom>
          <a:solidFill>
            <a:srgbClr val="000000"/>
          </a:solidFill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4405320" y="2451240"/>
            <a:ext cx="588960" cy="21420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27920" y="2224080"/>
            <a:ext cx="2238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ell-known directori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699320" y="4030560"/>
            <a:ext cx="83016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764840" y="4025880"/>
            <a:ext cx="906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11240" y="1982880"/>
            <a:ext cx="75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: 633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379840" y="1982880"/>
            <a:ext cx="950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WORLD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73520" y="4459320"/>
            <a:ext cx="1800" cy="374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405320" y="4459320"/>
            <a:ext cx="1440" cy="374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137120" y="4459320"/>
            <a:ext cx="1440" cy="374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68560" y="4459320"/>
            <a:ext cx="1800" cy="374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002360" y="4459320"/>
            <a:ext cx="1800" cy="374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735600" y="4459320"/>
            <a:ext cx="1800" cy="374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440400" y="4459320"/>
            <a:ext cx="1800" cy="374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172200" y="4459320"/>
            <a:ext cx="1440" cy="374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610480" y="4459320"/>
            <a:ext cx="1800" cy="374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342280" y="4459320"/>
            <a:ext cx="1800" cy="374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074080" y="4459320"/>
            <a:ext cx="1440" cy="374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805880" y="4459320"/>
            <a:ext cx="1440" cy="374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155080" y="3629160"/>
            <a:ext cx="1440" cy="37440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886880" y="3629160"/>
            <a:ext cx="1440" cy="37440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18320" y="3629160"/>
            <a:ext cx="1800" cy="37440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351560" y="3629160"/>
            <a:ext cx="1800" cy="37440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95560" y="3629160"/>
            <a:ext cx="1800" cy="37440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29160" y="3629160"/>
            <a:ext cx="1440" cy="37440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333600" y="3629160"/>
            <a:ext cx="1800" cy="37440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65400" y="3629160"/>
            <a:ext cx="1800" cy="37440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065400" y="4459320"/>
            <a:ext cx="1800" cy="374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798640" y="4459320"/>
            <a:ext cx="1800" cy="374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30440" y="4459320"/>
            <a:ext cx="1800" cy="374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62240" y="4459320"/>
            <a:ext cx="1440" cy="374760"/>
          </a:xfrm>
          <a:prstGeom prst="line">
            <a:avLst/>
          </a:prstGeom>
          <a:ln w="39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Jean Dollimore</cp:lastModifiedBy>
  <cp:lastPrinted>2000-11-12T21:05:10Z</cp:lastPrinted>
  <dcterms:modified xsi:type="dcterms:W3CDTF">2000-11-22T12:42:09Z</dcterms:modified>
  <cp:revision>56</cp:revision>
  <dc:subject/>
  <dc:title>Figure 15.1 A distributed multimedia system</dc:title>
</cp:coreProperties>
</file>